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813-062C-4C9D-B0F6-59E322A6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257-11FA-46E6-86E6-1EAA6647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01E-B682-4A9A-9947-8951C7AE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576-7BE3-4686-8ED3-1DA56AC8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7ED9-35B9-4CF2-A99F-C9BF8E91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F846-10FB-4EC6-8B31-7C5066B2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16D3-9AFD-4632-86DE-694B0044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8D81-011B-432C-A5A6-70172599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E684-2724-4784-BAFB-F550A062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FD60-8B3A-4058-A6F3-D336EAAB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9F8C-7094-4DAE-8410-AA70D18E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C65-0FF2-49F8-A51D-CC962F5C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EC7D-4936-446D-A5E7-6A0C51D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1AB4-E9B5-4326-9162-01245834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0FD2-9970-4337-9931-D8C06080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2068-7E5A-475B-875E-A372F03E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6375-E8F0-413E-BB8F-FAF1C71C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3BA-3439-475E-9850-184406BB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EBD-25E7-4D11-9A1F-A0F3DFE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73A-5300-48FF-99B8-67500F75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003-B06F-49B1-8793-44734483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0D4-0D4B-43BF-9655-E9366120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434-34F7-4AAF-A065-53BC92F2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D7F-4557-40EA-A056-19321DDE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463A-33AB-4534-A1A3-5F3330C3B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47E1-0A64-4B7D-9B24-37669B943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Jednos</a:t>
            </a: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tavna ilustracija G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Metode i tehnike analize podata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Prof. dr Zita Bošnja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4. korak: alter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Za problem maksimizacije – što je veći skor, verovatnije je da rešenje ostaje u narednoj generaci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(zadržavamo g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Random odabir rulet-tehniko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na osnovu izračunate verovatnoće f(x)/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f(x), crtamo “točak rulet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uzimamo rešenja prema očekivanoj reprodukciji f(x)/Avgf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581280" y="297180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4648320" y="3581280"/>
            <a:ext cx="22860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5943600" y="4114800"/>
            <a:ext cx="77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49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800600" y="4191120"/>
            <a:ext cx="77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5257800" y="5181480"/>
            <a:ext cx="77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31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6176880" y="5105520"/>
            <a:ext cx="77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11"/>
          <p:cNvSpPr/>
          <p:nvPr/>
        </p:nvSpPr>
        <p:spPr>
          <a:xfrm flipH="1" flipV="1">
            <a:off x="5181120" y="37339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5867280" y="46483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5867280" y="46483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14"/>
          <p:cNvSpPr/>
          <p:nvPr/>
        </p:nvSpPr>
        <p:spPr>
          <a:xfrm flipH="1">
            <a:off x="4648320" y="464832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4624560" y="5667480"/>
            <a:ext cx="42670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CR1, CR2, CR2, CR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6097320" y="5257800"/>
            <a:ext cx="22136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ledeć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generacij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Verdana"/>
              </a:rPr>
              <a:t>5. korak: genetički operator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r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štanje ne mora da se primeni na sve parove elemenata populaci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Specificiramo verovatnoću ukrštanja, PC (crossover probability) od 0.5 do 1.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Ako PC=0, potomci su samo duplikacija roditelja, za PC=1 se svaki par ukrš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982440"/>
            <a:ext cx="8163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3366"/>
                </a:solidFill>
                <a:latin typeface="Verdana"/>
              </a:rPr>
              <a:t>... 5. korak: genetički operatori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Zadajemo još i % populacije koja će se menjati mutacij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npr. PM = 0.001 (0.1%): na 1000 bitova dolazi 1 mutac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za jednu transformaciju populacije od 4 elementa sa 5 bitova, imamo 2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tova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(4X5) te nema mutaci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do mutacije će doći tek svakih 50 iteracija (50X20=10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sl-SI" sz="4000" spc="-1" strike="noStrike">
                <a:solidFill>
                  <a:srgbClr val="003366"/>
                </a:solidFill>
                <a:latin typeface="Verdana"/>
              </a:rPr>
              <a:t>5. korak: genetički operator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1 = 01101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1.p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2 = 11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2 = 11000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2.p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4 = 10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’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=01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’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=11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’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=11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’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=10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2971800" y="1752480"/>
            <a:ext cx="0" cy="990720"/>
          </a:xfrm>
          <a:prstGeom prst="line">
            <a:avLst/>
          </a:prstGeom>
          <a:ln w="93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99072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2971800" y="3124080"/>
            <a:ext cx="0" cy="762120"/>
          </a:xfrm>
          <a:prstGeom prst="line">
            <a:avLst/>
          </a:prstGeom>
          <a:ln w="93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Verdana"/>
              </a:rPr>
              <a:t>Nova iteracija – ponovna evaluacija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80880" y="1828800"/>
          <a:ext cx="8763120" cy="469728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838440"/>
                <a:gridCol w="1218960"/>
                <a:gridCol w="1905120"/>
                <a:gridCol w="25146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</a:t>
                      </a:r>
                      <a:r>
                        <a:rPr b="0" lang="sl-SI" sz="2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/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/Avg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Analiza rezulta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1170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1754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Avg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293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Avg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43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576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Ma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72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Najbolji je CR3 = 11011, tj. X=2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teoretski max je za X= 31, f(x)=96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Šta je potrebno uraditi pre primene GA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6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Treba odrediti kompon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Genetičku reprezentaciju (šemu kodiranja) za potencijalna reše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Kreirati inicijelnu populaciju potencijalnih reše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Definisati funkciju evaluacije za rangiranje rešenja po “dobrot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Odrediti genetičke operatore za menjanje “potomak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Odrediti parametre GA (veličinu populacije, učestalost primene operatora,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Verdana"/>
              </a:rPr>
              <a:t>Primer – optimizacija funkcij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f(x)=x</a:t>
            </a:r>
            <a:r>
              <a:rPr b="0" lang="sl-SI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Naći x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(0,31) koji maksimizira f-j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1. korak: reprezent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4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Zahtevi za predstavljanje alternativ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format kodiranog strin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minimalan, ali sveobuhvatan metod kodir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Koristićemo binarni vektor – hromoz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dužina vektora zavisi od zahtevane preciznosti, koja je u primeru =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otrebno je min. 5 bitova za opseg (0,3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(b-a)/(2</a:t>
            </a:r>
            <a:r>
              <a:rPr b="0" lang="sl-SI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–1)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Zahtevana precizn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(31-0)/(2</a:t>
            </a:r>
            <a:r>
              <a:rPr b="0" lang="sl-SI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–1)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sl-SI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... 1. korak: reprezent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4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Realni broj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binarni k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kod = binarno(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Verdana"/>
              </a:rPr>
              <a:t>decimalno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Binarni kod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realni bro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X = decimalno(kod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Verdana"/>
              </a:rPr>
              <a:t>binarno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Npr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X=11,  odgovarajući kod=01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kod=11001 odgovarajući broj je X=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Verdana"/>
              </a:rPr>
              <a:t>2. korak: Inicijelna populacija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Na slučajan način kreiramo hromozome tražene duž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(m=5 u primer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Npr. neka uzmemo 4 element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1 = 011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2 = 11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3 = 01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4 = 10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3. korak: Evalu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Evaluatorna funkcija je jednaka f-ji f(x), gde hromozom predstavlja binarnu vrednost rešenj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x1(CR1 = 01101) = 13      f(x1) = 16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x2(CR2 = 11000) = 24      f(x2) = 57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x3(CR3 = 01000) =   8      f(x3) =  6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x4(CR4 = 10011) = 19      f(x4) = 36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...   3. korak: Evalu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828800"/>
          <a:ext cx="8763120" cy="469728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838440"/>
                <a:gridCol w="1218960"/>
                <a:gridCol w="1905120"/>
                <a:gridCol w="25146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</a:t>
                      </a:r>
                      <a:r>
                        <a:rPr b="0" lang="sl-SI" sz="2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/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/Avg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4. korak: alter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Za problem maksimizacije – što je veći skor, verovatnije je da rešenje ostaje u narednoj generaci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(zadržavamo g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Random odabir rulet-tehniko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na osnovu izračunate verovatnoće f(x)/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f(x), crtamo “točak rulet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uzimamo rešenja prema očekivanoj reprodukciji f(x)/Avgf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1:57:27Z</dcterms:created>
  <dc:creator>ce</dc:creator>
  <dc:description/>
  <dc:language>en-US</dc:language>
  <cp:lastModifiedBy>Zita Bosnjak</cp:lastModifiedBy>
  <dcterms:modified xsi:type="dcterms:W3CDTF">2011-11-21T09:12:49Z</dcterms:modified>
  <cp:revision>24</cp:revision>
  <dc:subject/>
  <dc:title>Jednostavna ilustracija GA</dc:title>
</cp:coreProperties>
</file>