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AEBB-3EDB-45FC-A208-DA36FBF0F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B81-E5C1-4E84-B3FF-C8D3ABBDD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AF2-6803-4E8F-9C0A-835FA1E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B13-78CF-4E88-B884-3B6184D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A7C-2F53-4480-9BAB-5452071E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1E9-50CC-4803-9853-FEA1218F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AA9-EC5A-495E-93F7-9C8D4B87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363B-CC55-439D-830C-4CC5CAD4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716-E715-4A04-9DAF-4BD89B7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1139-7E04-4599-902C-BB113BF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E29-90E1-4FF4-BD75-319427C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D5BC-2B11-4B82-A58A-D02CCDCA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3613-D1F1-4F40-9A4C-951C9EB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C95-D50D-4B1E-9007-C982ACA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F54-D735-4F23-A868-EE9E228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B9FB-8542-4DD0-91E0-D8F60FE2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011B-B6C4-461A-B06F-018959C4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120F-0FB2-47BF-A28B-E5D25A34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6C4-74D0-42A3-B779-EF22F680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517-3336-4A5C-A854-44102EC8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FA3-1C4D-4A34-BDC9-347BE548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F99-6B0F-4E1F-A92A-08F9230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6F3-B386-47EB-9D56-8E3F7C8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7B3-31FF-48C6-9EEE-9E91096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54A-3F42-40DB-844E-85F525A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3AA-F34E-4967-AEC0-1B4FFAFD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ound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83C8-1E44-4A08-B46D-5A465612F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moon"/>
          <p:cNvPicPr/>
          <p:nvPr/>
        </p:nvPicPr>
        <p:blipFill>
          <a:blip r:embed="rId4"/>
          <a:stretch/>
        </p:blipFill>
        <p:spPr>
          <a:xfrm>
            <a:off x="152280" y="152280"/>
            <a:ext cx="1017720" cy="993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bk-star"/>
          <p:cNvPicPr/>
          <p:nvPr/>
        </p:nvPicPr>
        <p:blipFill>
          <a:blip r:embed="rId5"/>
          <a:stretch/>
        </p:blipFill>
        <p:spPr>
          <a:xfrm>
            <a:off x="7578720" y="0"/>
            <a:ext cx="1565280" cy="2297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" name="Picture 10" descr="f1"/>
          <p:cNvPicPr/>
          <p:nvPr/>
        </p:nvPicPr>
        <p:blipFill>
          <a:blip r:embed="rId6"/>
          <a:srcRect l="2501" t="0" r="0" b="0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ground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oon"/>
          <p:cNvPicPr/>
          <p:nvPr/>
        </p:nvPicPr>
        <p:blipFill>
          <a:blip r:embed="rId4"/>
          <a:stretch/>
        </p:blipFill>
        <p:spPr>
          <a:xfrm>
            <a:off x="152280" y="152280"/>
            <a:ext cx="1017720" cy="9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1"/>
          <p:cNvPicPr/>
          <p:nvPr/>
        </p:nvPicPr>
        <p:blipFill>
          <a:blip r:embed="rId5"/>
          <a:srcRect l="2501" t="0" r="0" b="0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k-star"/>
          <p:cNvPicPr/>
          <p:nvPr/>
        </p:nvPicPr>
        <p:blipFill>
          <a:blip r:embed="rId6"/>
          <a:stretch/>
        </p:blipFill>
        <p:spPr>
          <a:xfrm>
            <a:off x="7578720" y="0"/>
            <a:ext cx="1565280" cy="2297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D555-5359-49FA-9ED8-BBE94DA94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95680" y="380880"/>
            <a:ext cx="42674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Stabla odlu</a:t>
            </a:r>
            <a:r>
              <a:rPr b="0" lang="sr-Latn-CS" sz="5400" spc="-1" strike="noStrike">
                <a:solidFill>
                  <a:srgbClr val="ccecff"/>
                </a:solidFill>
                <a:latin typeface="Times New Roman"/>
              </a:rPr>
              <a:t>čivanj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95680" y="3886200"/>
            <a:ext cx="426744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Metode i tehnike analize podatak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Ilija Subaši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Ekonomski fakultet Subot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ostupak se rekurzivno ponavlja sve dok podskup T  ne sadrži primere samo jedne klas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Idealno bi bilo da se naprave sve moguće kombinacije vrednosti atribut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(sva stabla), ali to dovodi do kombinatorne eksplozije  (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tribut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sa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o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rednost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daju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oko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10</a:t>
            </a:r>
            <a:r>
              <a:rPr b="0" lang="sr-Latn-CS" sz="3200" spc="-1" strike="noStrike" baseline="30000">
                <a:solidFill>
                  <a:srgbClr val="ccecff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ombinacija -  9765625 prvila!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zato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oristimo heuristike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da maksimiziramo rezultate testova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</a:t>
            </a:r>
            <a:br>
              <a:rPr sz="4000"/>
            </a:b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imeri za učenje: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49240"/>
            <a:ext cx="91440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1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2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3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8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6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6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8"/>
          <p:cNvSpPr/>
          <p:nvPr/>
        </p:nvSpPr>
        <p:spPr>
          <a:xfrm rot="5400000">
            <a:off x="7320960" y="3255480"/>
            <a:ext cx="23572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klasa 1: 9 pri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klasa 2: 5 pri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1"/>
          <p:cNvSpPr/>
          <p:nvPr/>
        </p:nvSpPr>
        <p:spPr>
          <a:xfrm rot="16200000">
            <a:off x="-603000" y="3317040"/>
            <a:ext cx="264348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vrednost A:5 puta vrednost B : 4 puta vrednost C: 5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2"/>
          <p:cNvSpPr/>
          <p:nvPr/>
        </p:nvSpPr>
        <p:spPr>
          <a:xfrm rot="16200000">
            <a:off x="3184560" y="3755520"/>
            <a:ext cx="26431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True: 6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False: 8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214280" y="1857240"/>
            <a:ext cx="428760" cy="1500480"/>
          </a:xfrm>
          <a:prstGeom prst="rect">
            <a:avLst/>
          </a:pr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6786720" y="1857240"/>
            <a:ext cx="1143000" cy="1500480"/>
          </a:xfrm>
          <a:prstGeom prst="rect">
            <a:avLst/>
          </a:pr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 - gain (informaciona dobit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918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je T skup podatka,  S su primeri, a C su klase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i="1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je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broj primera u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S| ukupan broj 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riterijum ID3 algoritma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gai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testira na osnov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trop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S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*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za skup T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podeljen po rezultatima testa atributa X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T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/|T|)*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T</a:t>
            </a:r>
            <a:r>
              <a:rPr b="0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) = Info(T) - 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749320" y="3929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3979800" y="509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 - gain (informaciona dobit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918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je T skup podatka,  S su primeri, a C su klase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i="1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je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broj primera u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S| ukupan broj 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riterijum ID3 algoritma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gai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testira na osnov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trop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S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*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za skup T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podeljen po rezultatima testa atributa X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T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/|T|)*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T</a:t>
            </a:r>
            <a:r>
              <a:rPr b="0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) = Info(T) - 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2749320" y="3929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3979800" y="509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42960" y="4429080"/>
            <a:ext cx="7786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p broj p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ivnih, a n broj negativ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primera u skupu za učenje, entropija za svaku vrednost atributa se raču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fo = -   p    log2   p     -   n    log2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+n          p+n     p+n           p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7"/>
          <p:cNvSpPr/>
          <p:nvPr/>
        </p:nvSpPr>
        <p:spPr>
          <a:xfrm>
            <a:off x="1785960" y="5643720"/>
            <a:ext cx="50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9"/>
          <p:cNvSpPr/>
          <p:nvPr/>
        </p:nvSpPr>
        <p:spPr>
          <a:xfrm>
            <a:off x="142920" y="3714840"/>
            <a:ext cx="571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1714680" y="5643720"/>
            <a:ext cx="64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13"/>
          <p:cNvSpPr/>
          <p:nvPr/>
        </p:nvSpPr>
        <p:spPr>
          <a:xfrm>
            <a:off x="292896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14"/>
          <p:cNvSpPr/>
          <p:nvPr/>
        </p:nvSpPr>
        <p:spPr>
          <a:xfrm>
            <a:off x="378612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15"/>
          <p:cNvSpPr/>
          <p:nvPr/>
        </p:nvSpPr>
        <p:spPr>
          <a:xfrm>
            <a:off x="507204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8800" y="142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2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ntropija za primer je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(T)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) –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)=0.94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24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ada razdvojimo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olazni skup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na osnovu Attribute1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T)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(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2/5) 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3/5))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(-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4/4)-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0/4))+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(-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3/5)-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2/5)) =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0.69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= 0.940 – 0.694 = 0.2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= 0.940 – 0.892 = 0.048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974240" y="1928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broj primera u klas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122800" y="1928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broj primera u klas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14200" y="3500280"/>
            <a:ext cx="1643040" cy="1313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Attr1=A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5 prim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2 u klas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3 u klasi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9"/>
          <p:cNvCxnSpPr/>
          <p:nvPr/>
        </p:nvCxnSpPr>
        <p:spPr>
          <a:xfrm flipV="1">
            <a:off x="1856880" y="3357000"/>
            <a:ext cx="1072440" cy="5007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23" name="TextBox 11"/>
          <p:cNvSpPr/>
          <p:nvPr/>
        </p:nvSpPr>
        <p:spPr>
          <a:xfrm>
            <a:off x="214200" y="4929120"/>
            <a:ext cx="1643040" cy="1008720"/>
          </a:xfrm>
          <a:prstGeom prst="rect">
            <a:avLst/>
          </a:prstGeom>
          <a:noFill/>
          <a:ln w="93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Attr1=B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4 prim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sva 4 u klasi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6"/>
          <p:cNvCxnSpPr>
            <a:stCxn id="223" idx="3"/>
          </p:cNvCxnSpPr>
          <p:nvPr/>
        </p:nvCxnSpPr>
        <p:spPr>
          <a:xfrm flipV="1">
            <a:off x="1856880" y="3857040"/>
            <a:ext cx="1001160" cy="1580040"/>
          </a:xfrm>
          <a:prstGeom prst="straightConnector1">
            <a:avLst/>
          </a:prstGeom>
          <a:ln w="34920">
            <a:solidFill>
              <a:srgbClr val="47ffd1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4214880" y="4500720"/>
            <a:ext cx="4643280" cy="703800"/>
          </a:xfrm>
          <a:prstGeom prst="rect">
            <a:avLst/>
          </a:prstGeom>
          <a:noFill/>
          <a:ln w="34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000"/>
                </a:solidFill>
                <a:latin typeface="Times New Roman"/>
              </a:rPr>
              <a:t>Attr1=C u 5 primera: 3u klasi 1 i 2 u klasi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Straight Arrow Connector 22"/>
          <p:cNvCxnSpPr>
            <a:stCxn id="225" idx="1"/>
          </p:cNvCxnSpPr>
          <p:nvPr/>
        </p:nvCxnSpPr>
        <p:spPr>
          <a:xfrm flipH="1" flipV="1">
            <a:off x="3071160" y="4357440"/>
            <a:ext cx="1143720" cy="34344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koliko atribut ima kontinualnu numer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čku vrednost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ortiramo numeričke vrednosti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..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n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vaka vrednost između 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i v 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može da bude prag i tako dobijamo skup pragova 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..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n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(kojih je n-1)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2. algoritam C4.5 za prag bira min(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, v 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vi mogući pragovi se testiraju i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onaj sa najvećom dobiti se bir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0360" indent="-5090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rtirane vrednost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su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{6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8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6}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gu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ći pragovi su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{6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8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5}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3. posle testova dobijamo da je prag 80,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0.940 – 0.873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0.10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in(x</a:t>
            </a:r>
            <a:r>
              <a:rPr b="1" lang="sr-Latn-C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&gt; Gain(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&gt; Gain(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ako j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in(x</a:t>
            </a:r>
            <a:r>
              <a:rPr b="1" lang="sr-Latn-C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naj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ći, za početni čvor biramo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ttribut1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3643200" y="1143000"/>
            <a:ext cx="1656000" cy="1270080"/>
            <a:chOff x="3643200" y="1143000"/>
            <a:chExt cx="1656000" cy="1270080"/>
          </a:xfrm>
        </p:grpSpPr>
        <p:graphicFrame>
          <p:nvGraphicFramePr>
            <p:cNvPr id="233" name="Object 6"/>
            <p:cNvGraphicFramePr/>
            <p:nvPr/>
          </p:nvGraphicFramePr>
          <p:xfrm>
            <a:off x="3643200" y="1143000"/>
            <a:ext cx="1656000" cy="127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43200" y="1143000"/>
                      <a:ext cx="1656000" cy="12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Text Box 7"/>
            <p:cNvSpPr/>
            <p:nvPr/>
          </p:nvSpPr>
          <p:spPr>
            <a:xfrm>
              <a:off x="3816360" y="15033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1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Line 9"/>
          <p:cNvSpPr/>
          <p:nvPr/>
        </p:nvSpPr>
        <p:spPr>
          <a:xfrm flipH="1">
            <a:off x="2571840" y="1928880"/>
            <a:ext cx="1285920" cy="8571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645280" y="20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429080" y="2214720"/>
            <a:ext cx="0" cy="9284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5000760" y="1928880"/>
            <a:ext cx="1428480" cy="8571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073760" y="235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645520" y="185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00040" y="2857680"/>
            <a:ext cx="2158920" cy="200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3429000" y="3143160"/>
            <a:ext cx="2158920" cy="164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6215040" y="2857680"/>
            <a:ext cx="2347920" cy="192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324000" y="501336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684360" y="5013360"/>
            <a:ext cx="777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aljim testiranjem za T1 dobijamo da je optimalni test za Attr 2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&lt;</a:t>
            </a:r>
            <a:r>
              <a:rPr b="0" lang="sr-CS" sz="2800" spc="-1" strike="noStrike">
                <a:solidFill>
                  <a:srgbClr val="ccecff"/>
                </a:solidFill>
                <a:latin typeface="Times New Roman"/>
              </a:rPr>
              <a:t>= 70, а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za T3 test na Att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1285920" y="2428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500280" y="2714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6500880" y="2357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tablo odlučivan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3714840" y="1285920"/>
            <a:ext cx="1665360" cy="1269720"/>
            <a:chOff x="3714840" y="1285920"/>
            <a:chExt cx="1665360" cy="1269720"/>
          </a:xfrm>
        </p:grpSpPr>
        <p:graphicFrame>
          <p:nvGraphicFramePr>
            <p:cNvPr id="252" name="Object 5"/>
            <p:cNvGraphicFramePr/>
            <p:nvPr/>
          </p:nvGraphicFramePr>
          <p:xfrm>
            <a:off x="3714840" y="1285920"/>
            <a:ext cx="1655640" cy="126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14840" y="128592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Text Box 6"/>
            <p:cNvSpPr/>
            <p:nvPr/>
          </p:nvSpPr>
          <p:spPr>
            <a:xfrm>
              <a:off x="4000680" y="164304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3288240" y="21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4500720" y="2500200"/>
            <a:ext cx="0" cy="12146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073760" y="271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216760" y="214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3"/>
          <p:cNvGrpSpPr/>
          <p:nvPr/>
        </p:nvGrpSpPr>
        <p:grpSpPr>
          <a:xfrm>
            <a:off x="1571760" y="3214800"/>
            <a:ext cx="1736640" cy="1269720"/>
            <a:chOff x="1571760" y="3214800"/>
            <a:chExt cx="1736640" cy="1269720"/>
          </a:xfrm>
        </p:grpSpPr>
        <p:graphicFrame>
          <p:nvGraphicFramePr>
            <p:cNvPr id="260" name="Object 14"/>
            <p:cNvGraphicFramePr/>
            <p:nvPr/>
          </p:nvGraphicFramePr>
          <p:xfrm>
            <a:off x="1571760" y="3214800"/>
            <a:ext cx="1655640" cy="12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71760" y="321480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Text Box 15"/>
            <p:cNvSpPr/>
            <p:nvPr/>
          </p:nvSpPr>
          <p:spPr>
            <a:xfrm>
              <a:off x="1928880" y="35715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sr-C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Line 7"/>
          <p:cNvSpPr/>
          <p:nvPr/>
        </p:nvSpPr>
        <p:spPr>
          <a:xfrm flipH="1">
            <a:off x="2857680" y="2368440"/>
            <a:ext cx="1196640" cy="11318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H="1">
            <a:off x="1285920" y="4286160"/>
            <a:ext cx="642960" cy="785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1076040" y="4071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≤ </a:t>
            </a:r>
            <a:r>
              <a:rPr b="0" lang="sr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500040" y="5143680"/>
            <a:ext cx="1550880" cy="43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2714760" y="4357800"/>
            <a:ext cx="571320" cy="785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928960" y="4214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&gt;</a:t>
            </a:r>
            <a:r>
              <a:rPr b="0" lang="sr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2428920" y="5143680"/>
            <a:ext cx="1509840" cy="43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3786120" y="3714840"/>
            <a:ext cx="150012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5"/>
          <p:cNvGrpSpPr/>
          <p:nvPr/>
        </p:nvGrpSpPr>
        <p:grpSpPr>
          <a:xfrm>
            <a:off x="5500800" y="3143160"/>
            <a:ext cx="1736640" cy="1269720"/>
            <a:chOff x="5500800" y="3143160"/>
            <a:chExt cx="1736640" cy="1269720"/>
          </a:xfrm>
        </p:grpSpPr>
        <p:graphicFrame>
          <p:nvGraphicFramePr>
            <p:cNvPr id="272" name="Object 36"/>
            <p:cNvGraphicFramePr/>
            <p:nvPr/>
          </p:nvGraphicFramePr>
          <p:xfrm>
            <a:off x="5500800" y="3143160"/>
            <a:ext cx="1655640" cy="12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Object 3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0800" y="314316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Text Box 37"/>
            <p:cNvSpPr/>
            <p:nvPr/>
          </p:nvSpPr>
          <p:spPr>
            <a:xfrm>
              <a:off x="5857920" y="35715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Line 38"/>
          <p:cNvSpPr/>
          <p:nvPr/>
        </p:nvSpPr>
        <p:spPr>
          <a:xfrm flipH="1">
            <a:off x="5429160" y="4286160"/>
            <a:ext cx="571680" cy="10717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073120" y="4357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0"/>
          <p:cNvSpPr/>
          <p:nvPr/>
        </p:nvSpPr>
        <p:spPr>
          <a:xfrm>
            <a:off x="4714920" y="5373720"/>
            <a:ext cx="14414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1"/>
          <p:cNvSpPr/>
          <p:nvPr/>
        </p:nvSpPr>
        <p:spPr>
          <a:xfrm>
            <a:off x="6500880" y="4357800"/>
            <a:ext cx="571320" cy="1000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6643800" y="4214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3"/>
          <p:cNvSpPr/>
          <p:nvPr/>
        </p:nvSpPr>
        <p:spPr>
          <a:xfrm>
            <a:off x="6500880" y="5357880"/>
            <a:ext cx="1571400" cy="439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4929120" y="2286000"/>
            <a:ext cx="1143000" cy="1000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4"/>
          <p:cNvSpPr/>
          <p:nvPr/>
        </p:nvSpPr>
        <p:spPr>
          <a:xfrm flipH="1" flipV="1">
            <a:off x="5428800" y="1714320"/>
            <a:ext cx="1714680" cy="28548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5"/>
          <p:cNvSpPr/>
          <p:nvPr/>
        </p:nvSpPr>
        <p:spPr>
          <a:xfrm flipH="1">
            <a:off x="6858000" y="2286000"/>
            <a:ext cx="642960" cy="78588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6"/>
          <p:cNvSpPr/>
          <p:nvPr/>
        </p:nvSpPr>
        <p:spPr>
          <a:xfrm>
            <a:off x="7093080" y="1773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čvor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643880" y="4000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list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5"/>
          <p:cNvSpPr/>
          <p:nvPr/>
        </p:nvSpPr>
        <p:spPr>
          <a:xfrm flipH="1">
            <a:off x="7571880" y="4500720"/>
            <a:ext cx="357480" cy="71424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esto  nedostaju neki podaci u test podacima i postoje 2 načina da se to reši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zostavljanjem nekompletnih primer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modifikovanjem algoritma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najčešće se koristi korektivni faktor F (količnik broja primera sa poznazim atributima i broja primera)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ain(X) =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F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fo(T) - Info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T)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Stabla odlučivanja</a:t>
            </a:r>
            <a:br>
              <a:rPr sz="4000"/>
            </a:b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struktura predavanja</a:t>
            </a:r>
            <a:r>
              <a:rPr b="0" lang="sr-Latn-CS" sz="3600" spc="-1" strike="noStrike">
                <a:solidFill>
                  <a:srgbClr val="ccecff"/>
                </a:solidFill>
                <a:latin typeface="Times New Roman"/>
              </a:rPr>
              <a:t> -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odlučivan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uning (rezanje gran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Gen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risanje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3. Pored ovoga  svakom primeru se mora dodati odgovarajuća verovatnoća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ada je poznata vrednost u podskupu, primeru se dodeljuje 1, a kad nije dodeljuje mu se težina w (odnosno verovatnoća da pripada tom skupu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11280" y="1484280"/>
            <a:ext cx="6912000" cy="3474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1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2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3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sr-Latn-C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66"/>
                </a:solidFill>
                <a:latin typeface="Courier New"/>
              </a:rPr>
              <a:t>?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8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6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6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1"/>
          <p:cNvGrpSpPr/>
          <p:nvPr/>
        </p:nvGrpSpPr>
        <p:grpSpPr>
          <a:xfrm>
            <a:off x="900000" y="1557360"/>
            <a:ext cx="7417080" cy="3672000"/>
            <a:chOff x="900000" y="1557360"/>
            <a:chExt cx="7417080" cy="3672000"/>
          </a:xfrm>
        </p:grpSpPr>
        <p:grpSp>
          <p:nvGrpSpPr>
            <p:cNvPr id="294" name="Group 5"/>
            <p:cNvGrpSpPr/>
            <p:nvPr/>
          </p:nvGrpSpPr>
          <p:grpSpPr>
            <a:xfrm>
              <a:off x="3851280" y="1557360"/>
              <a:ext cx="1655640" cy="1270080"/>
              <a:chOff x="3851280" y="1557360"/>
              <a:chExt cx="1655640" cy="1270080"/>
            </a:xfrm>
          </p:grpSpPr>
          <p:graphicFrame>
            <p:nvGraphicFramePr>
              <p:cNvPr id="295" name="Object 6"/>
              <p:cNvGraphicFramePr/>
              <p:nvPr/>
            </p:nvGraphicFramePr>
            <p:xfrm>
              <a:off x="3851280" y="1557360"/>
              <a:ext cx="1655640" cy="1270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51280" y="1557360"/>
                        <a:ext cx="1655640" cy="127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Text Box 7"/>
              <p:cNvSpPr/>
              <p:nvPr/>
            </p:nvSpPr>
            <p:spPr>
              <a:xfrm>
                <a:off x="4024080" y="1917720"/>
                <a:ext cx="137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Atrr 1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Line 8"/>
            <p:cNvSpPr/>
            <p:nvPr/>
          </p:nvSpPr>
          <p:spPr>
            <a:xfrm flipH="1">
              <a:off x="2700360" y="2421000"/>
              <a:ext cx="1511280" cy="1511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9"/>
            <p:cNvSpPr/>
            <p:nvPr/>
          </p:nvSpPr>
          <p:spPr>
            <a:xfrm>
              <a:off x="2989800" y="29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4643280" y="2637000"/>
              <a:ext cx="0" cy="122364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1"/>
            <p:cNvSpPr/>
            <p:nvPr/>
          </p:nvSpPr>
          <p:spPr>
            <a:xfrm>
              <a:off x="5148360" y="2421000"/>
              <a:ext cx="1368360" cy="12240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997440" y="306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3"/>
            <p:cNvSpPr/>
            <p:nvPr/>
          </p:nvSpPr>
          <p:spPr>
            <a:xfrm>
              <a:off x="52214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900000" y="3932280"/>
              <a:ext cx="2232000" cy="129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90 True  CLASS1 5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348000" y="3860640"/>
              <a:ext cx="2158920" cy="1152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3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3716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6"/>
            <p:cNvSpPr/>
            <p:nvPr/>
          </p:nvSpPr>
          <p:spPr>
            <a:xfrm>
              <a:off x="5940360" y="3716280"/>
              <a:ext cx="2376720" cy="13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90 True  CLASS1 5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1042920" y="3284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8"/>
            <p:cNvSpPr/>
            <p:nvPr/>
          </p:nvSpPr>
          <p:spPr>
            <a:xfrm>
              <a:off x="3348000" y="3357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6804000" y="3139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24"/>
          <p:cNvSpPr/>
          <p:nvPr/>
        </p:nvSpPr>
        <p:spPr>
          <a:xfrm>
            <a:off x="468360" y="1557360"/>
            <a:ext cx="7772400" cy="4538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TR1 = A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TR2&lt;= 70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2.0/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2=(3.4/0.4)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/* 5:13=0,38 a na jednoj decimali je to 0,4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 IF ATTR1 = B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3.2/0)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 /* 3:13=0,23 a na jednoj decimali je to 0,2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 IF ATTR1= C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R3 = TRUE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2 (2.4/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3.0/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za svako pr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lo pridr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žena su 2 parametra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|T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|/E), gde je |T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| suma sv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primera u listu a E broj primera koji pripadaju drugoj klas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ko (3.4/0.4) zn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i 3 + 5/13 primera koji su stigli u list i 5/13 primera koji nisu date klase, u procentima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3/3.4 * 100 = 88 procenata je klasa 2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0.4/3.4 * 100 = 12 procenata koji su klasa 1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 - rezanje gran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30000" t="29870" r="30000" b="28799"/>
          <a:stretch/>
        </p:blipFill>
        <p:spPr>
          <a:xfrm>
            <a:off x="0" y="1071720"/>
            <a:ext cx="91440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 - rezanje gran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oces zamene pojedinih grana sa listovima naziva se rezanje stabla (descision-tree pruning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i rezanju algoritam očekuje manju grešku predviđanja i postoje 2 način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orišćenjem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χ</a:t>
            </a:r>
            <a:r>
              <a:rPr b="0" lang="sr-Latn-CS" sz="2800" spc="-1" strike="noStrike" baseline="30000">
                <a:solidFill>
                  <a:srgbClr val="ccecff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testa: kada ne postoje značajne razlike u klasifikaciji 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e uvođenja novog čvora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i tada se stari pretvara u list, tzv. preprun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klanjanjem nekih čvorova korišćenjem unapred utvrđenog kriterijuma 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osle obučavanja stabla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 tzv. post prun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4.5 algoritam koristi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postpruning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pristup da bi procenio grešku predviđan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Za svaki čvor se sprovodi test zasnovan na binomnom rasporedu </a:t>
            </a:r>
            <a:r>
              <a:rPr b="0" i="1" lang="sr-Latn-CS" sz="3200" spc="-1" strike="noStrike">
                <a:solidFill>
                  <a:srgbClr val="ccecff"/>
                </a:solidFill>
                <a:latin typeface="Times New Roman"/>
              </a:rPr>
              <a:t>U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sa stepenom poverenja 25% i upoređuje se sa verovatnoćom čvora iz kojeg polaz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koliko je greška veća, stablo se saseca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640" y="12855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elika stabla odlučivnja su veoma kompleksna i teška za razumevanje i da bi se učinila lakše čitljivim generišu se produkciona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o pravila se sastoji iz staze do lista, a THEN deo je konačn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lovi su međusobno isključujući i redosled pravila nije bita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elika stabla odlučivnja su veoma kompleksna i teška za razumevanje i da bi se učinila lakše čitljivim generišu se produkciona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o pravila se sastoji iz staze do lista, a THEN deo konačn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lovi su međusobno isključujući i redosled pravila nije bita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26920" y="1214280"/>
            <a:ext cx="7772400" cy="4857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1: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1 =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2&lt;= 7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1 (2.0/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2=(3.4/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1 =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1 (3.2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 ATTR1= C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2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 =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2 (2.4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1 (3.0/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episivanje pravila ne dovodi do pojednostavljenja mode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ostoje kriterijumi za odbacivnje  pravila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generalizacija i grupisanj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R: If A then CLASS C;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R1: If A’ THEN CLASS 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(A=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A’ U 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7936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upoređujemo grešku pravila R i R1 i ukoliko je manja greška za R1, onda možemo da generalizujemo pravil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7936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možemo i da grupišemo pravila 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rcRect l="33600" t="20266" r="21000" b="16000"/>
          <a:stretch/>
        </p:blipFill>
        <p:spPr>
          <a:xfrm>
            <a:off x="1571760" y="1000080"/>
            <a:ext cx="6918120" cy="5462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1165320" y="357120"/>
            <a:ext cx="7954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lasifikacij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je proces učenja funkcije koja mapira podatke u unapred poznate kla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lasifikator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je fun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ija koja mapira podatke u unapred poznate kla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Logičk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modeli koriste logičke (Boolean) i komparativne operatore, dok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statističk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modeli koriste matematičk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Formalno predstavljanje klasifikacije u 2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971640" y="3068280"/>
            <a:ext cx="6840360" cy="2592720"/>
            <a:chOff x="971640" y="3068280"/>
            <a:chExt cx="6840360" cy="2592720"/>
          </a:xfrm>
        </p:grpSpPr>
        <p:sp>
          <p:nvSpPr>
            <p:cNvPr id="106" name="Rectangle 5"/>
            <p:cNvSpPr/>
            <p:nvPr/>
          </p:nvSpPr>
          <p:spPr>
            <a:xfrm>
              <a:off x="971640" y="3068640"/>
              <a:ext cx="6840360" cy="259236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1187280" y="3284280"/>
              <a:ext cx="288720" cy="288720"/>
              <a:chOff x="1187280" y="3284280"/>
              <a:chExt cx="288720" cy="288720"/>
            </a:xfrm>
          </p:grpSpPr>
          <p:sp>
            <p:nvSpPr>
              <p:cNvPr id="108" name="Line 7"/>
              <p:cNvSpPr/>
              <p:nvPr/>
            </p:nvSpPr>
            <p:spPr>
              <a:xfrm>
                <a:off x="1187280" y="328428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8"/>
              <p:cNvSpPr/>
              <p:nvPr/>
            </p:nvSpPr>
            <p:spPr>
              <a:xfrm flipV="1">
                <a:off x="1187280" y="328428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8"/>
            <p:cNvGrpSpPr/>
            <p:nvPr/>
          </p:nvGrpSpPr>
          <p:grpSpPr>
            <a:xfrm>
              <a:off x="1258920" y="3789360"/>
              <a:ext cx="288720" cy="288720"/>
              <a:chOff x="1258920" y="3789360"/>
              <a:chExt cx="288720" cy="288720"/>
            </a:xfrm>
          </p:grpSpPr>
          <p:sp>
            <p:nvSpPr>
              <p:cNvPr id="111" name="Line 19"/>
              <p:cNvSpPr/>
              <p:nvPr/>
            </p:nvSpPr>
            <p:spPr>
              <a:xfrm>
                <a:off x="125892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20"/>
              <p:cNvSpPr/>
              <p:nvPr/>
            </p:nvSpPr>
            <p:spPr>
              <a:xfrm flipV="1">
                <a:off x="125892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21"/>
            <p:cNvGrpSpPr/>
            <p:nvPr/>
          </p:nvGrpSpPr>
          <p:grpSpPr>
            <a:xfrm>
              <a:off x="1619280" y="3357360"/>
              <a:ext cx="288720" cy="288720"/>
              <a:chOff x="1619280" y="3357360"/>
              <a:chExt cx="288720" cy="288720"/>
            </a:xfrm>
          </p:grpSpPr>
          <p:sp>
            <p:nvSpPr>
              <p:cNvPr id="114" name="Line 22"/>
              <p:cNvSpPr/>
              <p:nvPr/>
            </p:nvSpPr>
            <p:spPr>
              <a:xfrm>
                <a:off x="1619280" y="3357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3"/>
              <p:cNvSpPr/>
              <p:nvPr/>
            </p:nvSpPr>
            <p:spPr>
              <a:xfrm flipV="1">
                <a:off x="1619280" y="3357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24"/>
            <p:cNvGrpSpPr/>
            <p:nvPr/>
          </p:nvGrpSpPr>
          <p:grpSpPr>
            <a:xfrm>
              <a:off x="1476360" y="4292640"/>
              <a:ext cx="288720" cy="288720"/>
              <a:chOff x="1476360" y="4292640"/>
              <a:chExt cx="288720" cy="288720"/>
            </a:xfrm>
          </p:grpSpPr>
          <p:sp>
            <p:nvSpPr>
              <p:cNvPr id="117" name="Line 25"/>
              <p:cNvSpPr/>
              <p:nvPr/>
            </p:nvSpPr>
            <p:spPr>
              <a:xfrm>
                <a:off x="1476360" y="4292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26"/>
              <p:cNvSpPr/>
              <p:nvPr/>
            </p:nvSpPr>
            <p:spPr>
              <a:xfrm flipV="1">
                <a:off x="1476360" y="4292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27"/>
            <p:cNvGrpSpPr/>
            <p:nvPr/>
          </p:nvGrpSpPr>
          <p:grpSpPr>
            <a:xfrm>
              <a:off x="1979640" y="3789360"/>
              <a:ext cx="288720" cy="288720"/>
              <a:chOff x="1979640" y="3789360"/>
              <a:chExt cx="288720" cy="288720"/>
            </a:xfrm>
          </p:grpSpPr>
          <p:sp>
            <p:nvSpPr>
              <p:cNvPr id="120" name="Line 28"/>
              <p:cNvSpPr/>
              <p:nvPr/>
            </p:nvSpPr>
            <p:spPr>
              <a:xfrm>
                <a:off x="197964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29"/>
              <p:cNvSpPr/>
              <p:nvPr/>
            </p:nvSpPr>
            <p:spPr>
              <a:xfrm flipV="1">
                <a:off x="197964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Line 30"/>
            <p:cNvSpPr/>
            <p:nvPr/>
          </p:nvSpPr>
          <p:spPr>
            <a:xfrm>
              <a:off x="971640" y="465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1"/>
            <p:cNvSpPr/>
            <p:nvPr/>
          </p:nvSpPr>
          <p:spPr>
            <a:xfrm flipV="1">
              <a:off x="2700360" y="3068280"/>
              <a:ext cx="0" cy="151308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4643280" y="3716280"/>
              <a:ext cx="208908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 flipV="1">
              <a:off x="6804000" y="3716280"/>
              <a:ext cx="0" cy="187344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 flipV="1">
              <a:off x="4643280" y="3716280"/>
              <a:ext cx="0" cy="187344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932360" y="4005360"/>
              <a:ext cx="288720" cy="288720"/>
              <a:chOff x="4932360" y="4005360"/>
              <a:chExt cx="288720" cy="288720"/>
            </a:xfrm>
          </p:grpSpPr>
          <p:sp>
            <p:nvSpPr>
              <p:cNvPr id="128" name="Line 36"/>
              <p:cNvSpPr/>
              <p:nvPr/>
            </p:nvSpPr>
            <p:spPr>
              <a:xfrm>
                <a:off x="4932360" y="4005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7"/>
              <p:cNvSpPr/>
              <p:nvPr/>
            </p:nvSpPr>
            <p:spPr>
              <a:xfrm flipV="1">
                <a:off x="4932360" y="4005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8"/>
            <p:cNvGrpSpPr/>
            <p:nvPr/>
          </p:nvGrpSpPr>
          <p:grpSpPr>
            <a:xfrm>
              <a:off x="5076720" y="5013360"/>
              <a:ext cx="288720" cy="288720"/>
              <a:chOff x="5076720" y="5013360"/>
              <a:chExt cx="288720" cy="288720"/>
            </a:xfrm>
          </p:grpSpPr>
          <p:sp>
            <p:nvSpPr>
              <p:cNvPr id="131" name="Line 39"/>
              <p:cNvSpPr/>
              <p:nvPr/>
            </p:nvSpPr>
            <p:spPr>
              <a:xfrm>
                <a:off x="5076720" y="5013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0"/>
              <p:cNvSpPr/>
              <p:nvPr/>
            </p:nvSpPr>
            <p:spPr>
              <a:xfrm flipV="1">
                <a:off x="5076720" y="5013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41"/>
            <p:cNvGrpSpPr/>
            <p:nvPr/>
          </p:nvGrpSpPr>
          <p:grpSpPr>
            <a:xfrm>
              <a:off x="5796000" y="3933720"/>
              <a:ext cx="288720" cy="288720"/>
              <a:chOff x="5796000" y="3933720"/>
              <a:chExt cx="288720" cy="288720"/>
            </a:xfrm>
          </p:grpSpPr>
          <p:sp>
            <p:nvSpPr>
              <p:cNvPr id="134" name="Line 42"/>
              <p:cNvSpPr/>
              <p:nvPr/>
            </p:nvSpPr>
            <p:spPr>
              <a:xfrm>
                <a:off x="5796000" y="3933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43"/>
              <p:cNvSpPr/>
              <p:nvPr/>
            </p:nvSpPr>
            <p:spPr>
              <a:xfrm flipV="1">
                <a:off x="5796000" y="3933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44"/>
            <p:cNvGrpSpPr/>
            <p:nvPr/>
          </p:nvGrpSpPr>
          <p:grpSpPr>
            <a:xfrm>
              <a:off x="5364360" y="4365720"/>
              <a:ext cx="288720" cy="288720"/>
              <a:chOff x="5364360" y="4365720"/>
              <a:chExt cx="288720" cy="288720"/>
            </a:xfrm>
          </p:grpSpPr>
          <p:sp>
            <p:nvSpPr>
              <p:cNvPr id="137" name="Line 45"/>
              <p:cNvSpPr/>
              <p:nvPr/>
            </p:nvSpPr>
            <p:spPr>
              <a:xfrm>
                <a:off x="5364360" y="4365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46"/>
              <p:cNvSpPr/>
              <p:nvPr/>
            </p:nvSpPr>
            <p:spPr>
              <a:xfrm flipV="1">
                <a:off x="5364360" y="4365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7"/>
            <p:cNvGrpSpPr/>
            <p:nvPr/>
          </p:nvGrpSpPr>
          <p:grpSpPr>
            <a:xfrm>
              <a:off x="5651640" y="4869000"/>
              <a:ext cx="288720" cy="288720"/>
              <a:chOff x="5651640" y="4869000"/>
              <a:chExt cx="288720" cy="288720"/>
            </a:xfrm>
          </p:grpSpPr>
          <p:sp>
            <p:nvSpPr>
              <p:cNvPr id="140" name="Line 48"/>
              <p:cNvSpPr/>
              <p:nvPr/>
            </p:nvSpPr>
            <p:spPr>
              <a:xfrm>
                <a:off x="5651640" y="486900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49"/>
              <p:cNvSpPr/>
              <p:nvPr/>
            </p:nvSpPr>
            <p:spPr>
              <a:xfrm flipV="1">
                <a:off x="5651640" y="486900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50"/>
            <p:cNvGrpSpPr/>
            <p:nvPr/>
          </p:nvGrpSpPr>
          <p:grpSpPr>
            <a:xfrm>
              <a:off x="6156360" y="4508640"/>
              <a:ext cx="288720" cy="288720"/>
              <a:chOff x="6156360" y="4508640"/>
              <a:chExt cx="288720" cy="288720"/>
            </a:xfrm>
          </p:grpSpPr>
          <p:sp>
            <p:nvSpPr>
              <p:cNvPr id="143" name="Line 51"/>
              <p:cNvSpPr/>
              <p:nvPr/>
            </p:nvSpPr>
            <p:spPr>
              <a:xfrm>
                <a:off x="6156360" y="4508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2"/>
              <p:cNvSpPr/>
              <p:nvPr/>
            </p:nvSpPr>
            <p:spPr>
              <a:xfrm flipV="1">
                <a:off x="6156360" y="4508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Oval 53"/>
            <p:cNvSpPr/>
            <p:nvPr/>
          </p:nvSpPr>
          <p:spPr>
            <a:xfrm flipH="1" flipV="1">
              <a:off x="133200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54"/>
            <p:cNvSpPr/>
            <p:nvPr/>
          </p:nvSpPr>
          <p:spPr>
            <a:xfrm flipH="1" flipV="1">
              <a:off x="1547640" y="5157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55"/>
            <p:cNvSpPr/>
            <p:nvPr/>
          </p:nvSpPr>
          <p:spPr>
            <a:xfrm flipH="1" flipV="1">
              <a:off x="212400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56"/>
            <p:cNvSpPr/>
            <p:nvPr/>
          </p:nvSpPr>
          <p:spPr>
            <a:xfrm flipH="1" flipV="1">
              <a:off x="3058920" y="4365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57"/>
            <p:cNvSpPr/>
            <p:nvPr/>
          </p:nvSpPr>
          <p:spPr>
            <a:xfrm flipH="1" flipV="1">
              <a:off x="3492360" y="4436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58"/>
            <p:cNvSpPr/>
            <p:nvPr/>
          </p:nvSpPr>
          <p:spPr>
            <a:xfrm flipH="1" flipV="1">
              <a:off x="320364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59"/>
            <p:cNvSpPr/>
            <p:nvPr/>
          </p:nvSpPr>
          <p:spPr>
            <a:xfrm flipH="1" flipV="1">
              <a:off x="277164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60"/>
            <p:cNvSpPr/>
            <p:nvPr/>
          </p:nvSpPr>
          <p:spPr>
            <a:xfrm flipH="1" flipV="1">
              <a:off x="385128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1"/>
            <p:cNvSpPr/>
            <p:nvPr/>
          </p:nvSpPr>
          <p:spPr>
            <a:xfrm flipH="1" flipV="1">
              <a:off x="392436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2"/>
            <p:cNvSpPr/>
            <p:nvPr/>
          </p:nvSpPr>
          <p:spPr>
            <a:xfrm flipH="1" flipV="1">
              <a:off x="3203640" y="378864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3"/>
            <p:cNvSpPr/>
            <p:nvPr/>
          </p:nvSpPr>
          <p:spPr>
            <a:xfrm flipH="1" flipV="1">
              <a:off x="4282920" y="378864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4"/>
            <p:cNvSpPr/>
            <p:nvPr/>
          </p:nvSpPr>
          <p:spPr>
            <a:xfrm flipH="1" flipV="1">
              <a:off x="6950160" y="385992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5"/>
            <p:cNvSpPr/>
            <p:nvPr/>
          </p:nvSpPr>
          <p:spPr>
            <a:xfrm flipH="1" flipV="1">
              <a:off x="7380360" y="3933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6"/>
            <p:cNvSpPr/>
            <p:nvPr/>
          </p:nvSpPr>
          <p:spPr>
            <a:xfrm flipH="1" flipV="1">
              <a:off x="6661080" y="3212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7"/>
            <p:cNvSpPr/>
            <p:nvPr/>
          </p:nvSpPr>
          <p:spPr>
            <a:xfrm flipH="1" flipV="1">
              <a:off x="7236000" y="4868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8"/>
            <p:cNvSpPr/>
            <p:nvPr/>
          </p:nvSpPr>
          <p:spPr>
            <a:xfrm flipH="1" flipV="1">
              <a:off x="478800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9"/>
            <p:cNvSpPr/>
            <p:nvPr/>
          </p:nvSpPr>
          <p:spPr>
            <a:xfrm flipH="1" flipV="1">
              <a:off x="586728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O stablima odlučivanj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odlučivanja su najrasprostranjenija DM tehnika za logičko klasifikovanj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O su metod nadgledanog učenja, sa top-down pristupo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astoje se od čvorova u kojima se atributi testiraju i grana koje odgovaraju mogućim izlazima iz čvor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se završavaju listovima koji predstavljaju klas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O stablima odlučivan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3419640" y="1557360"/>
            <a:ext cx="1655640" cy="1269720"/>
            <a:chOff x="3419640" y="1557360"/>
            <a:chExt cx="1655640" cy="1269720"/>
          </a:xfrm>
        </p:grpSpPr>
        <p:graphicFrame>
          <p:nvGraphicFramePr>
            <p:cNvPr id="166" name="Object 5"/>
            <p:cNvGraphicFramePr/>
            <p:nvPr/>
          </p:nvGraphicFramePr>
          <p:xfrm>
            <a:off x="3419640" y="1557360"/>
            <a:ext cx="1655640" cy="126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155736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7"/>
            <p:cNvSpPr/>
            <p:nvPr/>
          </p:nvSpPr>
          <p:spPr>
            <a:xfrm>
              <a:off x="3853080" y="19018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&gt;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11"/>
          <p:cNvSpPr/>
          <p:nvPr/>
        </p:nvSpPr>
        <p:spPr>
          <a:xfrm>
            <a:off x="2774520" y="2708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716360" y="2492280"/>
            <a:ext cx="2016360" cy="2737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1763640" y="3429000"/>
            <a:ext cx="1655640" cy="1269720"/>
            <a:chOff x="1763640" y="3429000"/>
            <a:chExt cx="1655640" cy="1269720"/>
          </a:xfrm>
        </p:grpSpPr>
        <p:graphicFrame>
          <p:nvGraphicFramePr>
            <p:cNvPr id="172" name="Object 14"/>
            <p:cNvGraphicFramePr/>
            <p:nvPr/>
          </p:nvGraphicFramePr>
          <p:xfrm>
            <a:off x="1763640" y="3429000"/>
            <a:ext cx="1655640" cy="12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63640" y="342900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15"/>
            <p:cNvSpPr/>
            <p:nvPr/>
          </p:nvSpPr>
          <p:spPr>
            <a:xfrm>
              <a:off x="2196720" y="37735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6"/>
          <p:cNvSpPr/>
          <p:nvPr/>
        </p:nvSpPr>
        <p:spPr>
          <a:xfrm>
            <a:off x="755640" y="5373720"/>
            <a:ext cx="115236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2843280" y="2492280"/>
            <a:ext cx="936720" cy="1081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050920" y="5373720"/>
            <a:ext cx="11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276720" y="5373720"/>
            <a:ext cx="115236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1116000" y="4221000"/>
            <a:ext cx="936720" cy="1081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2484000" y="4508640"/>
            <a:ext cx="71640" cy="865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3059280" y="4437000"/>
            <a:ext cx="720720" cy="865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7088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619280" y="479736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2627280" y="48690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4502880" y="29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227640" y="5300640"/>
            <a:ext cx="11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3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/ 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Najpoznatiji algoritam za generisanje stabla odlu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ivanja je Kvinlanov ID3 algoritam sa proširenom verzijom C4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vi primeri za učenje se stavljaju na početak stabla;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akoj vrednosti atributa u korenu se pridružuje odgovarajući data s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Ovaj postupak se ponavlja dok svi primeri jednog čvora ne pripadaju istoj klas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3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/ 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357200"/>
            <a:ext cx="810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ako izabrati odgovarajući atribut za čvor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C4.5 algoritam se oslanja na </a:t>
            </a:r>
            <a:r>
              <a:rPr b="1" lang="sr-Latn-CS" sz="2800" spc="-1" strike="noStrike">
                <a:solidFill>
                  <a:srgbClr val="ccecff"/>
                </a:solidFill>
                <a:latin typeface="Times New Roman"/>
              </a:rPr>
              <a:t>teoriju informacij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slovi za C4.5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tribut-vrednost – flat fi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edefinisane klase – nadgledano učen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iskretne klase – primer ili pripada ili ne klas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ovoljno podataka – podaci za obučavanje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oraju da budu dovoljno robusn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su klase C</a:t>
            </a:r>
            <a:r>
              <a:rPr b="0" lang="sr-Latn-C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C</a:t>
            </a:r>
            <a:r>
              <a:rPr b="0" lang="sr-Latn-CS" sz="2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 ...,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 a skup podataka T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može da se sastoji od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odataka koji pripadaju samo jednoj klasi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j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- stablo je samo jedan lis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nema primera - stablo je list a C4.5 koristi kriterijum najčešće klase za vrednost lis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sadrži primere različitih klasa - tada se atributi testiraju, a skup T se deli na podskupove čiji primeri daju iste rezultate testova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8:13:10Z</dcterms:created>
  <dc:creator>Ame</dc:creator>
  <dc:description/>
  <dc:language>en-US</dc:language>
  <cp:lastModifiedBy>Zita Bosnjak</cp:lastModifiedBy>
  <dcterms:modified xsi:type="dcterms:W3CDTF">2018-03-29T08:52:14Z</dcterms:modified>
  <cp:revision>77</cp:revision>
  <dc:subject/>
  <dc:title>Stabla odlučivanja</dc:title>
</cp:coreProperties>
</file>