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127-1472-4970-8B4E-6CDF5BC6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61E-B404-4044-86E6-7ED3844D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CDF-1EE7-4A68-A3DB-34DFA60E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557-2ADE-45B3-A151-A283D56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1A2-4837-49C8-84B8-836790B6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275-07C2-4EB4-8407-1AA9B3A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641-BC21-4A00-B4C5-3CA9B749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3D7-9C9D-4CDB-9331-52A5C90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391D-A60B-41CF-B4CD-3BEF5FD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A266-585E-4EFF-A328-EF7EA5CE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18E9-7538-490A-B096-23CEF96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88B-C592-4E76-BE1B-3043881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5733-8E94-44B3-94EF-7CCCB357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33FC-3404-4458-BE6E-9E4FFB3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B97A-D7FF-4087-8F35-1B35320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BE98-B765-48BD-A0CA-2E674DD5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357-A344-4F47-B1D1-5BE7E998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13E-F5E7-40BA-9151-B15E967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C7B-F810-40C8-B729-017B090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D66-A1A1-4B97-8154-20C2D8B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CD7-325A-4DA9-876A-F75A83C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DCD-E48D-47A0-92AF-32916D4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3B2-6B45-4231-B0F2-56EF26A2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383-8761-40B1-978F-18A3E24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539-2722-4CFC-8EF8-2D0B1560E2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5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>
                  <a:gd name="textAreaLeft" fmla="*/ 0 w 5781600"/>
                  <a:gd name="textAreaRight" fmla="*/ 5781960 w 5781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CE5-B264-4D4D-9F89-F7B9A604D2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analyticsvidhya.com/blog/2015/09/naive-bayes-explained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tatističke metode D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ditional Probabilities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ex = M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gazine promotion = yes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tch promotion = yes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ife insurance promotion = no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redit card insurance = no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(4/6) (2/6) (4/6) (4/6) = 8/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6553080" y="3809880"/>
            <a:ext cx="1295640" cy="152424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0" y="2819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vrednosti čitamo direktno iz tab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 flipH="1">
            <a:off x="7543440" y="358128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581280" y="59436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pretpostavljamo međusobnu nezavisnost atrib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495680" y="5714640"/>
            <a:ext cx="60984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105520" y="5638320"/>
            <a:ext cx="0" cy="3812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5105520" y="5714640"/>
            <a:ext cx="4572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5105520" y="5714640"/>
            <a:ext cx="11430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bability for Sex=Male Given Evidence 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32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male 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0.0593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Tahoma"/>
              </a:rPr>
              <a:t>Po analogiji računam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female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95320" y="36576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(8/81) *(3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4120" y="4038480"/>
            <a:ext cx="0" cy="2286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400800" y="4267080"/>
            <a:ext cx="1066680" cy="53352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029200" y="484992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63b1"/>
                </a:solidFill>
                <a:latin typeface="Times New Roman"/>
              </a:rPr>
              <a:t>ne moramo računati jer je za obe hipoteze ista vr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6858000" y="4800600"/>
            <a:ext cx="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bability for Sex=Female Given Evidence 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female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0.0281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35200" y="5470560"/>
            <a:ext cx="234792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0.0593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0.02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724280" y="5638680"/>
            <a:ext cx="335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verovatnije je da se radi o </a:t>
            </a: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osobi muš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4114800" y="5715000"/>
            <a:ext cx="38088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Nedostatak Bajesovog klasifikato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oblem nastaje ako je jedno pojavljivanje vred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ti atributa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pr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r. žena sa osig. kred. kartice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ada je proizvod z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ednosti ostalih atributa postaju irelevant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odaje se mala konstanta </a:t>
            </a:r>
            <a:r>
              <a:rPr b="0" i="1" lang="sl-SI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i imeniocu i brojiocu svakog razlom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Zero-Valued Attribute Cou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2057400" y="2514600"/>
                <a:ext cx="6210360" cy="29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is a value between 0 and 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sually 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 is an equal fractional part of the total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 of possible values for the attribu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1" name="Group 11"/>
          <p:cNvGrpSpPr/>
          <p:nvPr/>
        </p:nvGrpSpPr>
        <p:grpSpPr>
          <a:xfrm>
            <a:off x="838080" y="2590920"/>
            <a:ext cx="420840" cy="1063440"/>
            <a:chOff x="838080" y="2590920"/>
            <a:chExt cx="420840" cy="1063440"/>
          </a:xfrm>
        </p:grpSpPr>
        <p:sp>
          <p:nvSpPr>
            <p:cNvPr id="172" name="Text Box 8"/>
            <p:cNvSpPr/>
            <p:nvPr/>
          </p:nvSpPr>
          <p:spPr>
            <a:xfrm>
              <a:off x="900000" y="259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914400" y="308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838080" y="3133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AutoShape 12"/>
          <p:cNvSpPr/>
          <p:nvPr/>
        </p:nvSpPr>
        <p:spPr>
          <a:xfrm>
            <a:off x="137160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518560" y="5435640"/>
            <a:ext cx="50133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00"/>
                </a:solidFill>
                <a:latin typeface="Times New Roman"/>
              </a:rPr>
              <a:t>ako atribut ima 2 vrednosti, p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923040" y="43005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1148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2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k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p=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2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33520" y="44197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99072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38040" y="47671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733920" y="4419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179960" y="4495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edostajući pod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586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S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yes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ovi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klasifikatorom se entiteti sa nedostajućim podacima ignoriš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Klasifikacija jedinke sa nedostajućim podaci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azin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Promotion = </a:t>
            </a:r>
            <a:r>
              <a:rPr b="0" i="1" lang="sl-SI" sz="2800" spc="-1" strike="noStrike">
                <a:solidFill>
                  <a:srgbClr val="00cc00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Insuranc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surance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2360" y="4714920"/>
            <a:ext cx="57585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00"/>
                </a:solidFill>
                <a:latin typeface="Times New Roman"/>
              </a:rPr>
              <a:t>Nepoznatu vrednost ignoriše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gazine promotion = yes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watch promotion = </a:t>
            </a: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unknown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 | sex = male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ne računa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fe insurance promotion = no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dit card insurance = no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4/6)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1.0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4/6) (4/6) = 8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1.0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 (sex =male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1778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 (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5625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umerički pod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oramo znati f-ju raspodele distribucija da bi smo mogli radit sa nj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3. Bajesov klasifika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gledano u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Ulazni atributi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djednako važ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đusobno nezavis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lasifikator se zasniva na Bajesovoj teor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62320" y="4495680"/>
            <a:ext cx="1447560" cy="533520"/>
          </a:xfrm>
          <a:prstGeom prst="rightArrow">
            <a:avLst>
              <a:gd name="adj1" fmla="val 50000"/>
              <a:gd name="adj2" fmla="val 678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114800" y="4537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ada uslovi često nisu ispunjeni, klasifikator u praksi dobro r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meric 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66680" y="3276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nential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class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ea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given numerical attrib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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clas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attrib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attribute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057400" y="2590920"/>
                <a:ext cx="43052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3"/>
          <p:cNvGraphicFramePr/>
          <p:nvPr/>
        </p:nvGraphicFramePr>
        <p:xfrm>
          <a:off x="457200" y="2443320"/>
          <a:ext cx="8182080" cy="29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3320"/>
                    <a:ext cx="81820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Oval 4"/>
          <p:cNvSpPr/>
          <p:nvPr/>
        </p:nvSpPr>
        <p:spPr>
          <a:xfrm>
            <a:off x="6400800" y="3048120"/>
            <a:ext cx="685800" cy="236196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81480" y="552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dodat je novi atribut, numeričkog t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4/6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4/6)(4/6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775480" y="304812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etpostavljamo NORMALNU rasp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 flipH="1" flipV="1">
            <a:off x="5028840" y="3047760"/>
            <a:ext cx="76212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5105160" y="3505320"/>
            <a:ext cx="685800" cy="30456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3581280" y="243828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657600" y="373392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09480" y="4724280"/>
            <a:ext cx="5045040" cy="119124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Za klasu muškaraca / žena računa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standardnu devijaciju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osečnu vr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4/6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4/6)(4/6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775480" y="304812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etpostavljamo NORMALNU rasp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 flipH="1" flipV="1">
            <a:off x="5028840" y="3047760"/>
            <a:ext cx="76212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160" y="3505320"/>
            <a:ext cx="685800" cy="30456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581280" y="243828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657600" y="373392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9480" y="4724280"/>
            <a:ext cx="5045040" cy="119124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Za klasu muškaraca / žena računa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standardnu devijaciju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osečnu vr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ext Box 10" descr=""/>
          <p:cNvPicPr/>
          <p:nvPr/>
        </p:nvPicPr>
        <p:blipFill>
          <a:blip r:embed="rId1"/>
          <a:stretch/>
        </p:blipFill>
        <p:spPr>
          <a:xfrm>
            <a:off x="6303960" y="4290840"/>
            <a:ext cx="25351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nastava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990720" y="1905120"/>
                <a:ext cx="6476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5"/>
          <p:cNvSpPr/>
          <p:nvPr/>
        </p:nvSpPr>
        <p:spPr>
          <a:xfrm>
            <a:off x="685800" y="2743200"/>
            <a:ext cx="7629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1/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7.69)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-(45-37)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2(7.69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1/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7.77)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-(45-43.5)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2(7.77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4/6)(2/6)(4/6)(4/6) 0.03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3/4)(2/4)(1/4)(3/4) 0.05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4435560" y="2835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5098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392600" y="2698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4664160" y="4070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919560" y="39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833960" y="39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nastava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2286000"/>
            <a:ext cx="8077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sex =male 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6/10) 0.03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8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 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4/10) 0.04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6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8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0.0016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mitent je pripadnik muškog r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er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142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s://www.analyticsvidhya.com/blog/2015/09/naive-bayes-explained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https://www.analyticsvidhya.com/wp-content/uploads/2015/08/Bayes_41.png"/>
          <p:cNvPicPr/>
          <p:nvPr/>
        </p:nvPicPr>
        <p:blipFill>
          <a:blip r:embed="rId2"/>
          <a:stretch/>
        </p:blipFill>
        <p:spPr>
          <a:xfrm>
            <a:off x="150840" y="2057400"/>
            <a:ext cx="887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še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2133720"/>
            <a:ext cx="85341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Yes | Sunny) = P( Sunny | Yes) * P(Yes) / P (Sun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(Sunny |Yes) = 3/9 = 0.33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Sunny) = 5/14 = 0.36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 Yes)= 9/14 = 0.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(Yes | Sunny) = 0.33 * 0.64 / 0.36 = 0.60, which has higher probability than P (No | Sunny)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and fast to predict class of test data set. It also perform well in multi class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ssumption of independence holds, a Naive Bayes classifier performs better compare to other models like logistic regression and you need less train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perform well in case of categorical input variables compared to numerical variable(s). For numerical variable, normal distribution is assumed (bell curve, which is a strong assum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219320"/>
            <a:ext cx="77724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ategorical variable has a category (in test data set), which was not observed in training data set, then model will assign a 0 (zero) probability and will be unable to make a prediction. This is often known as “Zero Frequency”. To solve this, we can use the smoothing technique. One of the simplest smoothing techniques is called Laplace esti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other side naive Bayes is also known as a bad estimator, so the probability outputs from predict_proba are not to be taken too seri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mitation of Naive Bayes is the assumption of independent predictors. In real life, it is almost impossible that we get a set of predictors which are completely indepen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10.3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yes Class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2286000" y="3733920"/>
                <a:ext cx="5334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is the hypothesis to be tes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E is the evidence associated with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276960" y="3800520"/>
            <a:ext cx="2867040" cy="3057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57200" y="60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es, Thomas (1763) An ess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solving a problem in the doctrine of chanc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ilosophical Transactions of the Royal Society of Londo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3:37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ic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 time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 class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xt classification/ Spam Filtering/ Sentimen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ommendation System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ther a user would like a given resource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0.3 Bayes Class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286000" y="3733920"/>
                <a:ext cx="5334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is the hypothesis to be tes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E is the evidence associated with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AutoShape 5"/>
          <p:cNvSpPr/>
          <p:nvPr/>
        </p:nvSpPr>
        <p:spPr>
          <a:xfrm>
            <a:off x="228600" y="4114800"/>
            <a:ext cx="1828800" cy="1752480"/>
          </a:xfrm>
          <a:prstGeom prst="wedgeRectCallout">
            <a:avLst>
              <a:gd name="adj1" fmla="val 87847"/>
              <a:gd name="adj2" fmla="val -4674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ipoteza, tj. zavisna promenljiva:  klasa koju predviđ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514600" y="2666880"/>
            <a:ext cx="4343400" cy="762120"/>
          </a:xfrm>
          <a:prstGeom prst="wedgeRectCallout">
            <a:avLst>
              <a:gd name="adj1" fmla="val -39106"/>
              <a:gd name="adj2" fmla="val 1277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svedočanstvo za hipotezu, određeno vrednostima ulaznih atrib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6781680" y="4419720"/>
            <a:ext cx="1828800" cy="1752480"/>
          </a:xfrm>
          <a:prstGeom prst="wedgeRectCallout">
            <a:avLst>
              <a:gd name="adj1" fmla="val -158680"/>
              <a:gd name="adj2" fmla="val -7337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a prior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verovatnoć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ipoteze, pre prezentovanja svedočanstva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yes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-ov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lasifikato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odaci su podskup BP o komitentima – vlasnicima kreditnih kar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dviđamo vrednost atributa Pol – izlazni atri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027"/>
          <p:cNvSpPr/>
          <p:nvPr/>
        </p:nvSpPr>
        <p:spPr>
          <a:xfrm>
            <a:off x="234648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3"/>
          <p:cNvGraphicFramePr/>
          <p:nvPr/>
        </p:nvGraphicFramePr>
        <p:xfrm>
          <a:off x="457200" y="2362320"/>
          <a:ext cx="8226360" cy="31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636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Oval 4"/>
          <p:cNvSpPr/>
          <p:nvPr/>
        </p:nvSpPr>
        <p:spPr>
          <a:xfrm>
            <a:off x="7543800" y="2743200"/>
            <a:ext cx="914400" cy="3200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295760" y="20988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izlazni a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3"/>
          <p:cNvGraphicFramePr/>
          <p:nvPr/>
        </p:nvGraphicFramePr>
        <p:xfrm>
          <a:off x="457200" y="2286000"/>
          <a:ext cx="8226360" cy="234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226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4"/>
          <p:cNvSpPr/>
          <p:nvPr/>
        </p:nvSpPr>
        <p:spPr>
          <a:xfrm>
            <a:off x="2438280" y="3657600"/>
            <a:ext cx="381240" cy="30492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294920" y="3809880"/>
            <a:ext cx="114300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V="1">
            <a:off x="2666880" y="3504960"/>
            <a:ext cx="0" cy="152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272960" y="4842000"/>
            <a:ext cx="552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4 muškarca su koristila promociju časopi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što je 2/3 ukupne muške popu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3 od ukupno 4 žena je kupilo magaz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24080" y="3962520"/>
            <a:ext cx="381240" cy="30456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362320" y="4235400"/>
            <a:ext cx="38088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ova klasifikacija jedin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azin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Insuranc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surance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734200" y="4765680"/>
            <a:ext cx="3775680" cy="19227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stoje dve hipote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oba je muš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oba je žens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BE TESTIR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puting The Probability For Sex = M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1371600" y="4114800"/>
                <a:ext cx="5943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le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l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Line 6"/>
          <p:cNvSpPr/>
          <p:nvPr/>
        </p:nvSpPr>
        <p:spPr>
          <a:xfrm>
            <a:off x="6477120" y="4495680"/>
            <a:ext cx="228600" cy="9907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5486400" y="3962520"/>
            <a:ext cx="1981080" cy="6094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093360" y="5535720"/>
            <a:ext cx="17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6 od 10 entit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= 3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18:47:44Z</dcterms:created>
  <dc:creator>Richard J. Roiger</dc:creator>
  <dc:description/>
  <cp:keywords>Addison-Wesley Publishing</cp:keywords>
  <dc:language>en-US</dc:language>
  <cp:lastModifiedBy>Zita Bosnjak</cp:lastModifiedBy>
  <cp:lastPrinted>2001-11-21T22:42:06Z</cp:lastPrinted>
  <dcterms:modified xsi:type="dcterms:W3CDTF">2018-01-22T12:42:41Z</dcterms:modified>
  <cp:revision>340</cp:revision>
  <dc:subject/>
  <dc:title>Data Mining A Tutorial-Based Primer</dc:title>
</cp:coreProperties>
</file>