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DC8-0A9B-4339-AC65-6237E38E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272-4082-4A1A-A681-9B0DB364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C4B-BE73-481E-8B61-D43D49CF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F36-8B1F-4AEC-BC26-F4E90828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E62-10E4-4D91-AC3E-4653D47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2FF-E901-4B18-9AF4-7D5F06D5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6CF-2CE5-46F8-99CC-1EE94DB4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A7A-49E0-4277-83BC-01ADF1D8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CE3-4B9B-4DE1-A939-D8042843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91F-237A-422A-9FBE-AB996796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24B-D5B5-4C67-9FB8-400EF5A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9C0-C173-49E8-A9C9-7681A5E1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86F6-C47F-45A7-93BD-8D656FB4B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LGORITAM K-CENT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ALATU DATA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98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41680" y="11592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is podataka u elektronskoj tab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21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48320" y="4038120"/>
            <a:ext cx="3200400" cy="79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vorni podaci u EXCEL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7506" b="56258"/>
          <a:stretch/>
        </p:blipFill>
        <p:spPr>
          <a:xfrm>
            <a:off x="0" y="685800"/>
            <a:ext cx="8839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911160"/>
            <a:ext cx="87631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6:12:23Z</dcterms:created>
  <dc:creator>Zita Bosnjak</dc:creator>
  <dc:description/>
  <dc:language>en-US</dc:language>
  <cp:lastModifiedBy>Zita Bosnjak</cp:lastModifiedBy>
  <dcterms:modified xsi:type="dcterms:W3CDTF">2007-04-03T07:23:10Z</dcterms:modified>
  <cp:revision>6</cp:revision>
  <dc:subject/>
  <dc:title>Slide 1</dc:title>
</cp:coreProperties>
</file>