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AFA-08D5-4DAA-9495-F976081B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586-A6C1-4E95-A76B-D205BDD4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0FB-7274-42EB-8BE5-4C621E2E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32A-0866-4BF8-95FC-09873627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44CA-1FF7-46B1-B310-F992ADD9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72F7-FC1F-4B67-A44E-938AE8E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3A38-A5F0-4E38-BB90-5BD4FF6F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92D7-667B-4B58-871F-E44C07DA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2041-6108-490B-82A6-3F2B9CB3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8C9-1FFF-4849-82FD-E0BF2BF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C76A-6888-4D9E-9193-4F421120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2EA-E0E9-444F-BCCD-51D5C25E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237C-97D7-4343-BBC3-279EE71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DDF9-AB16-4E45-9F3A-5A30517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FD3D-097F-4F81-9B2A-928D9C25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8FB-A552-4D10-B564-E069AC7C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9E7-EEA4-4B3D-A723-EBBDE0D1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1AD-7E42-4421-BE94-62385F8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41E-C277-4F8C-B0B3-1109825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685-6346-4128-8041-6CAB8BA2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EA2-86BC-4EF4-A32C-0825BF99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A51-2BDA-475D-A81A-9C2835F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D9C-9193-440E-A440-80B7939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29D-7ADF-41AD-BF13-B8A252BD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2073-E97C-444F-AF3D-600E0D4AF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04A-8E26-4013-A4F8-D928F156DC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ychstat.missouristate.edu/introbook/fdist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0066"/>
                </a:solidFill>
                <a:latin typeface="Arial"/>
              </a:rPr>
              <a:t>Statističke tehnike DM – linearna regresij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tode i tehnike analize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f. dr Zita Bošnj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odaci za analiz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719360"/>
          <a:ext cx="8229600" cy="4754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rš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celar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az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47960" y="3123720"/>
            <a:ext cx="3429000" cy="13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900" spc="-1" strike="noStrike">
                <a:solidFill>
                  <a:srgbClr val="330066"/>
                </a:solidFill>
                <a:latin typeface="Arial"/>
              </a:rPr>
              <a:t>Rezultat LINEST f-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zlaz regresione anal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eficijente čitamo direktno iz 1.reda tabele, u obrnutom redosled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234.2371645      2553.211    12529.77    27.64139  52317.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Vrednost=27.64 Površina+12529.77 Kancelarija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+2553.21 Ulaza -234.24 Starost + 52317.8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liko su j-ne tačn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 prostu linearnu regresiju crtamo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scatterplo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dijag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 višestruku gledamo statistiku iz tabe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Dijagram poste lin. regres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nos procenjene vrednosti i površ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7"/>
          <p:cNvGraphicFramePr/>
          <p:nvPr/>
        </p:nvGraphicFramePr>
        <p:xfrm>
          <a:off x="609480" y="2133720"/>
          <a:ext cx="7880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88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0066"/>
                </a:solidFill>
                <a:latin typeface="Arial"/>
              </a:rPr>
              <a:t>Statistički parametri efikasnosti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.parmetar u III redu: koeficijent određenosti (determinisanost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ko je 1, nema razlike između procenjene i stvarne vrednost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primeru 0.9967 ukazuje na visoku korelaciju, ali je računat nad primerima za obučavanje, a ne na test primerim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. parametar u III redu: standardna greška procene zavisne promenlj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0066"/>
                </a:solidFill>
                <a:latin typeface="Arial"/>
              </a:rPr>
              <a:t>Statistički parametri efikasnosti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.parmetar u IV redu: F statistika – signifikantnost koeficijenta determin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ne-tailed F satistics 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1= br. nezavisnih pr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2= uk. br. primera za učenje - uk.br. pr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primeru: v1=4, v2=11-5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2. parametar u IV redu je v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Arial"/>
              </a:rPr>
              <a:t>0.05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4,6)=4.53 </a:t>
            </a:r>
            <a:r>
              <a:rPr b="1" lang="hr-HR" sz="3000" spc="-1" strike="noStrike">
                <a:solidFill>
                  <a:srgbClr val="7e9ce8"/>
                </a:solidFill>
                <a:latin typeface="Symbol"/>
                <a:ea typeface="Symbol"/>
              </a:rPr>
              <a:t>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459.75 </a:t>
            </a:r>
            <a:r>
              <a:rPr b="0" lang="hr-HR" sz="2600" spc="-1" strike="noStrike">
                <a:solidFill>
                  <a:srgbClr val="7e9ce8"/>
                </a:solidFill>
                <a:latin typeface="Arial"/>
              </a:rPr>
              <a:t>signifikantno je </a:t>
            </a:r>
            <a:r>
              <a:rPr b="0" lang="hr-HR" sz="2600" spc="-1" strike="noStrike">
                <a:solidFill>
                  <a:srgbClr val="7e9ce8"/>
                </a:solidFill>
                <a:latin typeface="Symbol"/>
                <a:ea typeface="Symbol"/>
              </a:rPr>
              <a:t></a:t>
            </a:r>
            <a:r>
              <a:rPr b="0" lang="hr-HR" sz="2600" spc="-1" strike="noStrike">
                <a:solidFill>
                  <a:srgbClr val="7e9ce8"/>
                </a:solidFill>
                <a:latin typeface="Arial"/>
              </a:rPr>
              <a:t> regresiona jednačina tačno predviđa vre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Na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psychstat.missouristate.edu/introbook/fdist.htm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    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e mogu prona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ći kritične vrednosti F statistike (</a:t>
            </a:r>
            <a:r>
              <a:rPr b="0" lang="sr-Latn-CS" sz="2000" spc="-1" strike="noStrike">
                <a:solidFill>
                  <a:srgbClr val="7e9ce8"/>
                </a:solidFill>
                <a:latin typeface="Arial"/>
              </a:rPr>
              <a:t>zadamo v1 i v2 i dobijemo rezultat za 0.05 i 0.01 signifikantnost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0066"/>
                </a:solidFill>
                <a:latin typeface="Arial"/>
              </a:rPr>
              <a:t>Statistički parametri efikasnosti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armetri u II redu: korisnost pojedinih nezavisnih prom. u predviđanju vrednosti zavisne promenlj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er prime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stenzija linije trend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tpostavimo da se organizacija bavi administriranjem računarskih sistema kroz korisničku podršku (tzv. help-desk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tpostavimo da prolazimo kroz period rasta, te je potrebno anticipirati koliki personal u help-desku da obezbedi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poslednjih 10 meseci je organizacija narasla sa 30 na 300 zaposleni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modela podata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980640"/>
            <a:ext cx="7632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postavimo da posedujemo memorisane podatke o poslovanju u poslednjih 40 ned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na osoba može da obradi 20-tak zahteva za podrškom nedeljno.  40. nedelje - 10 oso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2712960"/>
          <a:ext cx="9144000" cy="4079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zuelizacija podata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Chart 4" descr=""/>
          <p:cNvPicPr/>
          <p:nvPr/>
        </p:nvPicPr>
        <p:blipFill>
          <a:blip r:embed="rId1"/>
          <a:stretch/>
        </p:blipFill>
        <p:spPr>
          <a:xfrm>
            <a:off x="244440" y="1481040"/>
            <a:ext cx="7504200" cy="38293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250920" y="528804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osa: ned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osa: broj obrađenih zaht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5364000" y="4076640"/>
            <a:ext cx="3780000" cy="2654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jući u vidu vreme za prijem novih radnika i njihovu obuku, potreban je alat za predviđanje potražnje u narednom periodu (npr. 20 nedelja unap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4932360" y="1773360"/>
            <a:ext cx="1727280" cy="914400"/>
          </a:xfrm>
          <a:prstGeom prst="ellipse">
            <a:avLst/>
          </a:prstGeom>
          <a:solidFill>
            <a:srgbClr val="cccc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 Analiza linearnom regresij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atistička regresija je tehnika </a:t>
            </a:r>
            <a:r>
              <a:rPr b="0" lang="hr-HR" sz="3000" spc="-1" strike="noStrike">
                <a:solidFill>
                  <a:srgbClr val="7e9ce8"/>
                </a:solidFill>
                <a:latin typeface="Arial"/>
              </a:rPr>
              <a:t>nadgledanog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učen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eneralizuje skup ulaznih </a:t>
            </a:r>
            <a:r>
              <a:rPr b="0" lang="hr-HR" sz="3000" spc="-1" strike="noStrike">
                <a:solidFill>
                  <a:srgbClr val="7e9ce8"/>
                </a:solidFill>
                <a:latin typeface="Arial"/>
              </a:rPr>
              <a:t>numeričkih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podataka pomoću matematčke  jednačine koja stavlja u odnos jedan ili više ulaznih atributa sa izlazn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e9ce8"/>
                </a:solidFill>
                <a:latin typeface="Arial"/>
              </a:rPr>
              <a:t>Linearnom regresijom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modelujemo varijacije zavisne promenljive  kao linearnu kombinaciju jedne ili više nezavisnih promenljivih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zultat linearne regresije u EXCEL-u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rcRect l="0" t="0" r="42081" b="13858"/>
          <a:stretch/>
        </p:blipFill>
        <p:spPr>
          <a:xfrm>
            <a:off x="0" y="1176480"/>
            <a:ext cx="6519960" cy="5681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4738680" y="4653000"/>
            <a:ext cx="4325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0,642 + 5,086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d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n Arrow 4"/>
          <p:cNvSpPr/>
          <p:nvPr/>
        </p:nvSpPr>
        <p:spPr>
          <a:xfrm rot="5400000">
            <a:off x="3827160" y="4317840"/>
            <a:ext cx="506520" cy="11764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50920" y="4653000"/>
            <a:ext cx="3241440" cy="431640"/>
          </a:xfrm>
          <a:prstGeom prst="rect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zultat linearne regresije u EXCEL-u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0" t="0" r="42081" b="13858"/>
          <a:stretch/>
        </p:blipFill>
        <p:spPr>
          <a:xfrm>
            <a:off x="0" y="1176480"/>
            <a:ext cx="6519960" cy="5681520"/>
          </a:xfrm>
          <a:prstGeom prst="rect">
            <a:avLst/>
          </a:prstGeom>
          <a:ln w="0">
            <a:noFill/>
          </a:ln>
        </p:spPr>
      </p:pic>
      <p:sp>
        <p:nvSpPr>
          <p:cNvPr id="211" name="Down Arrow 4"/>
          <p:cNvSpPr/>
          <p:nvPr/>
        </p:nvSpPr>
        <p:spPr>
          <a:xfrm rot="5400000">
            <a:off x="3828240" y="4172400"/>
            <a:ext cx="433080" cy="110520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4506840" y="4508640"/>
            <a:ext cx="4325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0,642 + 5,086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d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50920" y="4653000"/>
            <a:ext cx="3241440" cy="431640"/>
          </a:xfrm>
          <a:prstGeom prst="rect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4000" y="5373720"/>
            <a:ext cx="1295280" cy="4316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733920" y="5761080"/>
            <a:ext cx="49111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ko je model tačan? (98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9"/>
          <p:cNvCxnSpPr/>
          <p:nvPr/>
        </p:nvCxnSpPr>
        <p:spPr>
          <a:xfrm flipH="1" flipV="1">
            <a:off x="1476000" y="5804640"/>
            <a:ext cx="504000" cy="288360"/>
          </a:xfrm>
          <a:prstGeom prst="straightConnector1">
            <a:avLst/>
          </a:prstGeom>
          <a:ln w="60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7" name="TextBox 12"/>
          <p:cNvSpPr/>
          <p:nvPr/>
        </p:nvSpPr>
        <p:spPr>
          <a:xfrm>
            <a:off x="4308840" y="5157720"/>
            <a:ext cx="45774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andardna greška pro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3"/>
          <p:cNvCxnSpPr>
            <a:stCxn id="217" idx="1"/>
          </p:cNvCxnSpPr>
          <p:nvPr/>
        </p:nvCxnSpPr>
        <p:spPr>
          <a:xfrm flipH="1">
            <a:off x="3491640" y="5418000"/>
            <a:ext cx="793080" cy="99360"/>
          </a:xfrm>
          <a:prstGeom prst="straightConnector1">
            <a:avLst/>
          </a:prstGeom>
          <a:ln w="60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9" name="Rectangle 18"/>
          <p:cNvSpPr/>
          <p:nvPr/>
        </p:nvSpPr>
        <p:spPr>
          <a:xfrm>
            <a:off x="2138400" y="5359320"/>
            <a:ext cx="1366920" cy="4320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7"/>
          <p:cNvSpPr/>
          <p:nvPr/>
        </p:nvSpPr>
        <p:spPr>
          <a:xfrm>
            <a:off x="1969920" y="6091200"/>
            <a:ext cx="1800360" cy="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2124000" y="6165720"/>
            <a:ext cx="1368360" cy="358920"/>
          </a:xfrm>
          <a:prstGeom prst="rect">
            <a:avLst/>
          </a:prstGeom>
          <a:noFill/>
          <a:ln w="41400">
            <a:solidFill>
              <a:srgbClr val="85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4450320" y="6329520"/>
            <a:ext cx="4240800" cy="520560"/>
          </a:xfrm>
          <a:prstGeom prst="rect">
            <a:avLst/>
          </a:prstGeom>
          <a:solidFill>
            <a:srgbClr val="850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upna kvadratna gre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9"/>
          <p:cNvCxnSpPr/>
          <p:nvPr/>
        </p:nvCxnSpPr>
        <p:spPr>
          <a:xfrm flipH="1" flipV="1">
            <a:off x="3563640" y="6453000"/>
            <a:ext cx="792720" cy="144720"/>
          </a:xfrm>
          <a:prstGeom prst="straightConnector1">
            <a:avLst/>
          </a:prstGeom>
          <a:ln w="54000">
            <a:solidFill>
              <a:srgbClr val="850a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5"/>
          <p:cNvSpPr/>
          <p:nvPr/>
        </p:nvSpPr>
        <p:spPr>
          <a:xfrm>
            <a:off x="642960" y="1857240"/>
            <a:ext cx="4572000" cy="3571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kupna kvadratna gre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26" name="Straight Arrow Connector 2"/>
          <p:cNvCxnSpPr/>
          <p:nvPr/>
        </p:nvCxnSpPr>
        <p:spPr>
          <a:xfrm flipV="1">
            <a:off x="1285560" y="2428560"/>
            <a:ext cx="1080" cy="25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Straight Arrow Connector 3"/>
          <p:cNvCxnSpPr/>
          <p:nvPr/>
        </p:nvCxnSpPr>
        <p:spPr>
          <a:xfrm>
            <a:off x="1285920" y="5000400"/>
            <a:ext cx="364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TextBox 4"/>
          <p:cNvSpPr/>
          <p:nvPr/>
        </p:nvSpPr>
        <p:spPr>
          <a:xfrm>
            <a:off x="171432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64276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1427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928520" y="42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29998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2385720" y="424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264276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285720" y="300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3487320" y="355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7856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4"/>
          <p:cNvSpPr/>
          <p:nvPr/>
        </p:nvSpPr>
        <p:spPr>
          <a:xfrm flipV="1">
            <a:off x="928800" y="3214800"/>
            <a:ext cx="3286080" cy="16430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15"/>
          <p:cNvCxnSpPr/>
          <p:nvPr/>
        </p:nvCxnSpPr>
        <p:spPr>
          <a:xfrm>
            <a:off x="1856880" y="4143240"/>
            <a:ext cx="108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0" name="Straight Arrow Connector 16"/>
          <p:cNvCxnSpPr/>
          <p:nvPr/>
        </p:nvCxnSpPr>
        <p:spPr>
          <a:xfrm>
            <a:off x="2285640" y="3714840"/>
            <a:ext cx="1080" cy="4291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1" name="Straight Arrow Connector 17"/>
          <p:cNvCxnSpPr/>
          <p:nvPr/>
        </p:nvCxnSpPr>
        <p:spPr>
          <a:xfrm flipV="1">
            <a:off x="3143160" y="3714120"/>
            <a:ext cx="23040" cy="5007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2" name="Straight Arrow Connector 18"/>
          <p:cNvCxnSpPr/>
          <p:nvPr/>
        </p:nvCxnSpPr>
        <p:spPr>
          <a:xfrm>
            <a:off x="2928600" y="3471480"/>
            <a:ext cx="20880" cy="3290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3" name="Straight Arrow Connector 19"/>
          <p:cNvCxnSpPr/>
          <p:nvPr/>
        </p:nvCxnSpPr>
        <p:spPr>
          <a:xfrm>
            <a:off x="3428640" y="3285720"/>
            <a:ext cx="20880" cy="327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4" name="Straight Arrow Connector 20"/>
          <p:cNvCxnSpPr/>
          <p:nvPr/>
        </p:nvCxnSpPr>
        <p:spPr>
          <a:xfrm flipV="1">
            <a:off x="2786040" y="3928680"/>
            <a:ext cx="2304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5" name="Straight Arrow Connector 21"/>
          <p:cNvCxnSpPr/>
          <p:nvPr/>
        </p:nvCxnSpPr>
        <p:spPr>
          <a:xfrm flipV="1">
            <a:off x="2500200" y="4071600"/>
            <a:ext cx="13680" cy="357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6" name="Straight Arrow Connector 22"/>
          <p:cNvCxnSpPr>
            <a:endCxn id="229" idx="2"/>
          </p:cNvCxnSpPr>
          <p:nvPr/>
        </p:nvCxnSpPr>
        <p:spPr>
          <a:xfrm>
            <a:off x="2785680" y="3786120"/>
            <a:ext cx="11880" cy="1558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7" name="Straight Arrow Connector 23"/>
          <p:cNvCxnSpPr>
            <a:endCxn id="231" idx="0"/>
          </p:cNvCxnSpPr>
          <p:nvPr/>
        </p:nvCxnSpPr>
        <p:spPr>
          <a:xfrm flipV="1">
            <a:off x="2071440" y="4214160"/>
            <a:ext cx="11880" cy="2149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 flipV="1">
            <a:off x="3630240" y="3543120"/>
            <a:ext cx="10080" cy="226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49" name="TextBox 38"/>
          <p:cNvSpPr/>
          <p:nvPr/>
        </p:nvSpPr>
        <p:spPr>
          <a:xfrm>
            <a:off x="13608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186084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1860840" y="36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1"/>
          <p:cNvSpPr/>
          <p:nvPr/>
        </p:nvSpPr>
        <p:spPr>
          <a:xfrm>
            <a:off x="3643200" y="3500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2"/>
          <p:cNvSpPr/>
          <p:nvPr/>
        </p:nvSpPr>
        <p:spPr>
          <a:xfrm>
            <a:off x="3089880" y="321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4"/>
          <p:cNvSpPr/>
          <p:nvPr/>
        </p:nvSpPr>
        <p:spPr>
          <a:xfrm>
            <a:off x="5286240" y="2643120"/>
            <a:ext cx="3714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...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5"/>
          <p:cNvSpPr/>
          <p:nvPr/>
        </p:nvSpPr>
        <p:spPr>
          <a:xfrm>
            <a:off x="642960" y="1857240"/>
            <a:ext cx="4572000" cy="3571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kupna kvadratna gre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57" name="Straight Arrow Connector 2"/>
          <p:cNvCxnSpPr/>
          <p:nvPr/>
        </p:nvCxnSpPr>
        <p:spPr>
          <a:xfrm flipV="1">
            <a:off x="1285560" y="2428560"/>
            <a:ext cx="1080" cy="25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Straight Arrow Connector 3"/>
          <p:cNvCxnSpPr/>
          <p:nvPr/>
        </p:nvCxnSpPr>
        <p:spPr>
          <a:xfrm>
            <a:off x="1285920" y="5000400"/>
            <a:ext cx="364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TextBox 4"/>
          <p:cNvSpPr/>
          <p:nvPr/>
        </p:nvSpPr>
        <p:spPr>
          <a:xfrm>
            <a:off x="171432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264276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21427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1928520" y="42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29998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385720" y="424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264276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3285720" y="300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3487320" y="355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27856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4"/>
          <p:cNvSpPr/>
          <p:nvPr/>
        </p:nvSpPr>
        <p:spPr>
          <a:xfrm flipV="1">
            <a:off x="928800" y="3214800"/>
            <a:ext cx="3286080" cy="16430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15"/>
          <p:cNvCxnSpPr/>
          <p:nvPr/>
        </p:nvCxnSpPr>
        <p:spPr>
          <a:xfrm>
            <a:off x="1856880" y="4143240"/>
            <a:ext cx="108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1" name="Straight Arrow Connector 16"/>
          <p:cNvCxnSpPr/>
          <p:nvPr/>
        </p:nvCxnSpPr>
        <p:spPr>
          <a:xfrm>
            <a:off x="2285640" y="3714840"/>
            <a:ext cx="1080" cy="4291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2" name="Straight Arrow Connector 17"/>
          <p:cNvCxnSpPr/>
          <p:nvPr/>
        </p:nvCxnSpPr>
        <p:spPr>
          <a:xfrm flipV="1">
            <a:off x="3143160" y="3714120"/>
            <a:ext cx="23040" cy="5007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3" name="Straight Arrow Connector 18"/>
          <p:cNvCxnSpPr/>
          <p:nvPr/>
        </p:nvCxnSpPr>
        <p:spPr>
          <a:xfrm>
            <a:off x="2928600" y="3471480"/>
            <a:ext cx="20880" cy="3290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4" name="Straight Arrow Connector 19"/>
          <p:cNvCxnSpPr/>
          <p:nvPr/>
        </p:nvCxnSpPr>
        <p:spPr>
          <a:xfrm>
            <a:off x="3428640" y="3285720"/>
            <a:ext cx="20880" cy="327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5" name="Straight Arrow Connector 20"/>
          <p:cNvCxnSpPr/>
          <p:nvPr/>
        </p:nvCxnSpPr>
        <p:spPr>
          <a:xfrm flipV="1">
            <a:off x="2786040" y="3928680"/>
            <a:ext cx="2304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6" name="Straight Arrow Connector 21"/>
          <p:cNvCxnSpPr/>
          <p:nvPr/>
        </p:nvCxnSpPr>
        <p:spPr>
          <a:xfrm flipV="1">
            <a:off x="2500200" y="4071600"/>
            <a:ext cx="13680" cy="357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7" name="Straight Arrow Connector 22"/>
          <p:cNvCxnSpPr>
            <a:endCxn id="260" idx="2"/>
          </p:cNvCxnSpPr>
          <p:nvPr/>
        </p:nvCxnSpPr>
        <p:spPr>
          <a:xfrm>
            <a:off x="2785680" y="3786120"/>
            <a:ext cx="11880" cy="1558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8" name="Straight Arrow Connector 23"/>
          <p:cNvCxnSpPr>
            <a:endCxn id="262" idx="0"/>
          </p:cNvCxnSpPr>
          <p:nvPr/>
        </p:nvCxnSpPr>
        <p:spPr>
          <a:xfrm flipV="1">
            <a:off x="2071440" y="4214160"/>
            <a:ext cx="11880" cy="2149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9" name="Straight Arrow Connector 24"/>
          <p:cNvCxnSpPr/>
          <p:nvPr/>
        </p:nvCxnSpPr>
        <p:spPr>
          <a:xfrm flipH="1" flipV="1">
            <a:off x="3630240" y="3543120"/>
            <a:ext cx="10080" cy="226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80" name="TextBox 38"/>
          <p:cNvSpPr/>
          <p:nvPr/>
        </p:nvSpPr>
        <p:spPr>
          <a:xfrm>
            <a:off x="13608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9"/>
          <p:cNvSpPr/>
          <p:nvPr/>
        </p:nvSpPr>
        <p:spPr>
          <a:xfrm>
            <a:off x="186084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0"/>
          <p:cNvSpPr/>
          <p:nvPr/>
        </p:nvSpPr>
        <p:spPr>
          <a:xfrm>
            <a:off x="1860840" y="36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1"/>
          <p:cNvSpPr/>
          <p:nvPr/>
        </p:nvSpPr>
        <p:spPr>
          <a:xfrm>
            <a:off x="3643200" y="3500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2"/>
          <p:cNvSpPr/>
          <p:nvPr/>
        </p:nvSpPr>
        <p:spPr>
          <a:xfrm>
            <a:off x="3089880" y="321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4"/>
          <p:cNvSpPr/>
          <p:nvPr/>
        </p:nvSpPr>
        <p:spPr>
          <a:xfrm>
            <a:off x="5286240" y="2643120"/>
            <a:ext cx="3714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...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2"/>
          <p:cNvGrpSpPr/>
          <p:nvPr/>
        </p:nvGrpSpPr>
        <p:grpSpPr>
          <a:xfrm>
            <a:off x="1071720" y="2286000"/>
            <a:ext cx="2786040" cy="2143080"/>
            <a:chOff x="1071720" y="2286000"/>
            <a:chExt cx="2786040" cy="2143080"/>
          </a:xfrm>
        </p:grpSpPr>
        <p:sp>
          <p:nvSpPr>
            <p:cNvPr id="287" name="Straight Connector 33"/>
            <p:cNvSpPr/>
            <p:nvPr/>
          </p:nvSpPr>
          <p:spPr>
            <a:xfrm flipV="1">
              <a:off x="1071720" y="2286000"/>
              <a:ext cx="2786040" cy="185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34"/>
            <p:cNvCxnSpPr/>
            <p:nvPr/>
          </p:nvCxnSpPr>
          <p:spPr>
            <a:xfrm flipV="1">
              <a:off x="1857240" y="3642840"/>
              <a:ext cx="1080" cy="42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9" name="Straight Arrow Connector 36"/>
            <p:cNvCxnSpPr/>
            <p:nvPr/>
          </p:nvCxnSpPr>
          <p:spPr>
            <a:xfrm flipV="1">
              <a:off x="2071440" y="3428640"/>
              <a:ext cx="1080" cy="929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0" name="Straight Arrow Connector 37"/>
            <p:cNvCxnSpPr/>
            <p:nvPr/>
          </p:nvCxnSpPr>
          <p:spPr>
            <a:xfrm flipV="1">
              <a:off x="2285640" y="3357000"/>
              <a:ext cx="1080" cy="28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1" name="Straight Arrow Connector 43"/>
            <p:cNvCxnSpPr/>
            <p:nvPr/>
          </p:nvCxnSpPr>
          <p:spPr>
            <a:xfrm flipV="1">
              <a:off x="2543040" y="3142800"/>
              <a:ext cx="1080" cy="1286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2" name="Straight Arrow Connector 45"/>
            <p:cNvCxnSpPr/>
            <p:nvPr/>
          </p:nvCxnSpPr>
          <p:spPr>
            <a:xfrm flipV="1">
              <a:off x="3214440" y="2785680"/>
              <a:ext cx="1080" cy="1286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3" name="Straight Arrow Connector 46"/>
            <p:cNvCxnSpPr/>
            <p:nvPr/>
          </p:nvCxnSpPr>
          <p:spPr>
            <a:xfrm flipV="1">
              <a:off x="3643200" y="2356920"/>
              <a:ext cx="1080" cy="1286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4" name="Straight Arrow Connector 47"/>
            <p:cNvCxnSpPr/>
            <p:nvPr/>
          </p:nvCxnSpPr>
          <p:spPr>
            <a:xfrm flipV="1">
              <a:off x="3429360" y="2499480"/>
              <a:ext cx="10080" cy="6339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" name="Straight Arrow Connector 48"/>
            <p:cNvCxnSpPr/>
            <p:nvPr/>
          </p:nvCxnSpPr>
          <p:spPr>
            <a:xfrm flipV="1">
              <a:off x="2786040" y="3071160"/>
              <a:ext cx="1080" cy="562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296" name="Straight Arrow Connector 49"/>
          <p:cNvCxnSpPr/>
          <p:nvPr/>
        </p:nvCxnSpPr>
        <p:spPr>
          <a:xfrm flipV="1">
            <a:off x="2928600" y="2928240"/>
            <a:ext cx="108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7" name="TextBox 50"/>
          <p:cNvSpPr/>
          <p:nvPr/>
        </p:nvSpPr>
        <p:spPr>
          <a:xfrm>
            <a:off x="5357880" y="378612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ljenost podataka (tačaka) do modela predstavljenog crvenom linijom je veća nego do modela predstavljenog žutom linij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ena modela podata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24000" y="980640"/>
            <a:ext cx="7632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viđanje za narednih 20 nedel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1773360"/>
          <a:ext cx="4572000" cy="4079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pic>
        <p:nvPicPr>
          <p:cNvPr id="301" name="Chart 5" descr=""/>
          <p:cNvPicPr/>
          <p:nvPr/>
        </p:nvPicPr>
        <p:blipFill>
          <a:blip r:embed="rId1"/>
          <a:stretch/>
        </p:blipFill>
        <p:spPr>
          <a:xfrm>
            <a:off x="4638600" y="1768320"/>
            <a:ext cx="4511880" cy="3473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"/>
          <p:cNvSpPr/>
          <p:nvPr/>
        </p:nvSpPr>
        <p:spPr>
          <a:xfrm>
            <a:off x="4572000" y="551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Što dalje predviđamo u budućnost, greška predviđanja ras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na greš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kupna razlika predviđenih i postignutih stvarnih vrednosti – SSE (sum of squared erro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to je model tačniji, SSE je manji. (u primeru: 1846,4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 po sebi ne govori mnogo, ali se koristi za komparaciju alternativnih mode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tablo regres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lternativa statističkoj regresiji za numeričke vrednos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lik stabla odlučivanja sa numeričkim vrednostima listova umesto kategorički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rednost u listu je prosečna vr. izlaznog atributa svih entiteta koji su prošli tom granom stab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ko je vrednost u listu izračunata kao linearna regresija, g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imo o stablima modela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(model tre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Generičko stablo mod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8" name="Group 10"/>
          <p:cNvGrpSpPr/>
          <p:nvPr/>
        </p:nvGrpSpPr>
        <p:grpSpPr>
          <a:xfrm>
            <a:off x="2964600" y="1628640"/>
            <a:ext cx="2181960" cy="1366920"/>
            <a:chOff x="2964600" y="1628640"/>
            <a:chExt cx="2181960" cy="1366920"/>
          </a:xfrm>
        </p:grpSpPr>
        <p:sp>
          <p:nvSpPr>
            <p:cNvPr id="309" name="Oval 5"/>
            <p:cNvSpPr/>
            <p:nvPr/>
          </p:nvSpPr>
          <p:spPr>
            <a:xfrm>
              <a:off x="3346560" y="162864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 flipH="1">
              <a:off x="2985840" y="234792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>
              <a:off x="4138560" y="234792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2964600" y="2292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4691160" y="22924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1"/>
          <p:cNvGrpSpPr/>
          <p:nvPr/>
        </p:nvGrpSpPr>
        <p:grpSpPr>
          <a:xfrm>
            <a:off x="1616760" y="2995560"/>
            <a:ext cx="2181960" cy="1366920"/>
            <a:chOff x="1616760" y="2995560"/>
            <a:chExt cx="2181960" cy="1366920"/>
          </a:xfrm>
        </p:grpSpPr>
        <p:sp>
          <p:nvSpPr>
            <p:cNvPr id="315" name="Oval 12"/>
            <p:cNvSpPr/>
            <p:nvPr/>
          </p:nvSpPr>
          <p:spPr>
            <a:xfrm>
              <a:off x="1998720" y="299556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3"/>
            <p:cNvSpPr/>
            <p:nvPr/>
          </p:nvSpPr>
          <p:spPr>
            <a:xfrm flipH="1">
              <a:off x="1638000" y="371484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>
              <a:off x="2790720" y="371484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1616760" y="3659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3343320" y="365940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4568040" y="2852640"/>
            <a:ext cx="2181960" cy="1366920"/>
            <a:chOff x="4568040" y="2852640"/>
            <a:chExt cx="2181960" cy="1366920"/>
          </a:xfrm>
        </p:grpSpPr>
        <p:sp>
          <p:nvSpPr>
            <p:cNvPr id="321" name="Oval 18"/>
            <p:cNvSpPr/>
            <p:nvPr/>
          </p:nvSpPr>
          <p:spPr>
            <a:xfrm>
              <a:off x="4950000" y="285264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9"/>
            <p:cNvSpPr/>
            <p:nvPr/>
          </p:nvSpPr>
          <p:spPr>
            <a:xfrm flipH="1">
              <a:off x="4589280" y="357192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"/>
            <p:cNvSpPr/>
            <p:nvPr/>
          </p:nvSpPr>
          <p:spPr>
            <a:xfrm>
              <a:off x="5742000" y="357192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1"/>
            <p:cNvSpPr/>
            <p:nvPr/>
          </p:nvSpPr>
          <p:spPr>
            <a:xfrm>
              <a:off x="4568040" y="3516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2"/>
            <p:cNvSpPr/>
            <p:nvPr/>
          </p:nvSpPr>
          <p:spPr>
            <a:xfrm>
              <a:off x="6294600" y="35164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5649120" y="4221000"/>
            <a:ext cx="2181960" cy="1366920"/>
            <a:chOff x="5649120" y="4221000"/>
            <a:chExt cx="2181960" cy="1366920"/>
          </a:xfrm>
        </p:grpSpPr>
        <p:sp>
          <p:nvSpPr>
            <p:cNvPr id="327" name="Oval 24"/>
            <p:cNvSpPr/>
            <p:nvPr/>
          </p:nvSpPr>
          <p:spPr>
            <a:xfrm>
              <a:off x="6031080" y="422100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 flipH="1">
              <a:off x="5670360" y="494028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6823080" y="494028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7"/>
            <p:cNvSpPr/>
            <p:nvPr/>
          </p:nvSpPr>
          <p:spPr>
            <a:xfrm>
              <a:off x="5649120" y="4884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7375680" y="488484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9"/>
          <p:cNvSpPr/>
          <p:nvPr/>
        </p:nvSpPr>
        <p:spPr>
          <a:xfrm>
            <a:off x="1194480" y="436572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3210840" y="436572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291920" y="422100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2"/>
          <p:cNvSpPr/>
          <p:nvPr/>
        </p:nvSpPr>
        <p:spPr>
          <a:xfrm>
            <a:off x="5442840" y="566100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3"/>
          <p:cNvSpPr/>
          <p:nvPr/>
        </p:nvSpPr>
        <p:spPr>
          <a:xfrm>
            <a:off x="7387560" y="558972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tablo mod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je stablo regresije složenije (sa više hijerarhijskih nivoa), manji je stepen linearnosti između ulaznih i izlazne promenlj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85480" y="1285920"/>
            <a:ext cx="78627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rupisanje objekata opisanih nezavisnim atributima u predefinisane izlazne kla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4560" indent="-45720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odela radnika po otvarenom učinku (nadprosečni /ispod prose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4560" indent="-45720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Davanje zajma klijentima banke  (repay/default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datak je odrediti kombinaciju karakteristika koja najbolje predviđa pripadnost entiteta određenoj kategorij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trebno je odrediti granicu između klasa. Ako je izlazna vrednost iznad granice, entitet pripada prvoj klasi, u suprotnom, drugoj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214200" y="0"/>
            <a:ext cx="79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330066"/>
                </a:solidFill>
                <a:latin typeface="Arial"/>
              </a:rPr>
              <a:t>Upotreba višestruke regresije za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d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skriminat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iv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u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anali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zu </a:t>
            </a:r>
            <a:r>
              <a:rPr b="0" lang="hr-HR" sz="3900" spc="-1" strike="noStrike">
                <a:solidFill>
                  <a:srgbClr val="330066"/>
                </a:solidFill>
                <a:latin typeface="Arial"/>
              </a:rPr>
              <a:t>– primer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69" t="11339" r="51674" b="31496"/>
          <a:stretch/>
        </p:blipFill>
        <p:spPr>
          <a:xfrm>
            <a:off x="4292640" y="3402000"/>
            <a:ext cx="4676760" cy="3267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rosta linearna regres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77868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ednačina koja omogućava da </a:t>
            </a:r>
            <a:r>
              <a:rPr b="0" lang="hr-HR" sz="2600" spc="-1" strike="noStrike">
                <a:solidFill>
                  <a:srgbClr val="7e9ce8"/>
                </a:solidFill>
                <a:latin typeface="Arial"/>
              </a:rPr>
              <a:t>jedn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nezavisna promenljiva (x) bude prediktor zavisne promenljive (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orma j-ne (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slope intersect for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):   y=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b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nstante a i b 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čunaju nadgledani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čenjem, primenjujuć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atistiku na pozn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rednosti za x 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– presek y 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- strm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094000" y="316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587800" y="581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032440" y="49118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0" y="1928880"/>
          <a:ext cx="8839080" cy="44193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Box 3"/>
          <p:cNvSpPr/>
          <p:nvPr/>
        </p:nvSpPr>
        <p:spPr>
          <a:xfrm>
            <a:off x="3717360" y="16430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0" y="1928880"/>
          <a:ext cx="8839080" cy="44193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Box 3"/>
          <p:cNvSpPr/>
          <p:nvPr/>
        </p:nvSpPr>
        <p:spPr>
          <a:xfrm>
            <a:off x="357120" y="4429080"/>
            <a:ext cx="878688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ačina linearne regresije - diskriminativna funkc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utcome = 0.430 - 0.421 Age + 0.333 Gender - 0.648 Claim + + 0.584 Tickets - 1.091 Prior Claims + 0.573 Attorne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717360" y="16430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1928880"/>
          <a:ext cx="8839080" cy="44193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Box 3"/>
          <p:cNvSpPr/>
          <p:nvPr/>
        </p:nvSpPr>
        <p:spPr>
          <a:xfrm>
            <a:off x="5929200" y="2143080"/>
            <a:ext cx="1785960" cy="4302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-0.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5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4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-0.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3717360" y="16430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87480" y="6488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rosečna vrednost f-je za DOBRE klijente (grupa 0) = 0.106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loše =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0" y="1928880"/>
          <a:ext cx="8839080" cy="25779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Box 3"/>
          <p:cNvSpPr/>
          <p:nvPr/>
        </p:nvSpPr>
        <p:spPr>
          <a:xfrm>
            <a:off x="5857920" y="2143080"/>
            <a:ext cx="1785960" cy="2447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8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0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3723840" y="16430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TEST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285840" y="4714920"/>
            <a:ext cx="8072280" cy="36828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rosečna vrednost f-je za DOBRE klijente (grupa 0) = 0.106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loše =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wn Arrow 8"/>
          <p:cNvSpPr/>
          <p:nvPr/>
        </p:nvSpPr>
        <p:spPr>
          <a:xfrm>
            <a:off x="3714840" y="5072040"/>
            <a:ext cx="500040" cy="500040"/>
          </a:xfrm>
          <a:prstGeom prst="downArrow">
            <a:avLst>
              <a:gd name="adj1" fmla="val 50000"/>
              <a:gd name="adj2" fmla="val 70315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285840" y="5572080"/>
            <a:ext cx="8072280" cy="119124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nica postignuća (cut-off) je njihova sredina: (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0.106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/2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i test primeri  sa rezultatom ispod 0.492 će biti ubrojani u klasu dobrih, a test primeri sa rezultatom preko 0.492 će biti ubrojani u klasu loši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1928880"/>
          <a:ext cx="8839080" cy="25779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Box 3"/>
          <p:cNvSpPr/>
          <p:nvPr/>
        </p:nvSpPr>
        <p:spPr>
          <a:xfrm>
            <a:off x="5857920" y="2143080"/>
            <a:ext cx="2071800" cy="2447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80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91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08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3723840" y="16430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TEST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285840" y="4714920"/>
            <a:ext cx="8072280" cy="36828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rosečna vrednost f-je za DOBRE klijente (grupa 0) = 0.106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loše =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Down Arrow 8"/>
          <p:cNvSpPr/>
          <p:nvPr/>
        </p:nvSpPr>
        <p:spPr>
          <a:xfrm>
            <a:off x="3714840" y="5072040"/>
            <a:ext cx="500040" cy="500040"/>
          </a:xfrm>
          <a:prstGeom prst="downArrow">
            <a:avLst>
              <a:gd name="adj1" fmla="val 50000"/>
              <a:gd name="adj2" fmla="val 70315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285840" y="5572080"/>
            <a:ext cx="8072280" cy="119124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nica postignuća (cut-off) je njihova sredina: (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0.106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/2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i test primeri  sa rezultatom ispod 0.492 će biti ubrojani u klasu dobrih, a test primeri sa rezultatom preko 0.492 će biti ubrojani u klasu loši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0" y="1928880"/>
          <a:ext cx="8839080" cy="25779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3"/>
          <p:cNvSpPr/>
          <p:nvPr/>
        </p:nvSpPr>
        <p:spPr>
          <a:xfrm>
            <a:off x="5857920" y="2143080"/>
            <a:ext cx="2071800" cy="2447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80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91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08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3723840" y="16430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TEST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5857920" y="5000760"/>
            <a:ext cx="28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Tačnost modela nad TEST PODACIMA je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42960" y="4735440"/>
          <a:ext cx="4929120" cy="14637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  <a:gridCol w="1231920"/>
                <a:gridCol w="1231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av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/5=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  <p:sp>
        <p:nvSpPr>
          <p:cNvPr id="373" name="Straight Connector 13"/>
          <p:cNvSpPr/>
          <p:nvPr/>
        </p:nvSpPr>
        <p:spPr>
          <a:xfrm>
            <a:off x="714240" y="5857920"/>
            <a:ext cx="485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5"/>
          <p:cNvSpPr/>
          <p:nvPr/>
        </p:nvSpPr>
        <p:spPr>
          <a:xfrm>
            <a:off x="4357800" y="4786200"/>
            <a:ext cx="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286680" y="3071880"/>
            <a:ext cx="257148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286680" y="3500280"/>
            <a:ext cx="2571480" cy="357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143760" y="4214880"/>
            <a:ext cx="257148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Upotreba višestruke regresije za klasifikaciju – prim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aza komitenata – vlasnika kreditne kar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prema podataka: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ol ženski →0, muški → 1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romoci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Yes →1, No →0, intervali →donja gra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moc.živ-osig.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=0.5909(osig.k.k) -0.5455 (pol) + 0.772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 li je ženska osoba koja nema osig.k.k. kandidat za promoc.živ-osig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moc.živ-osig.=0.5909(0) -0.5455 (0) 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+ 0.7727=0.772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rednost blizu 1 znači da jeste kandid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330066"/>
                </a:solidFill>
                <a:latin typeface="Arial"/>
              </a:rPr>
              <a:t>Nedostaci linearne/višestruke regresij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funkciji izlazna promenljiva nije ograničena, već može biti i negativna. Trebalo bi ograničiti na vrednosti između 0 i 1, kao verovatnost pojavljivanja/nepojavljivanja događ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šenje: Logaritamska transformacija j-ne linearne regresij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idi prezentacij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. teh. 1A - Logaritamska regresi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zračunavanje konstanti </a:t>
            </a:r>
            <a:r>
              <a:rPr b="1" i="1" lang="hr-HR" sz="39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i </a:t>
            </a:r>
            <a:r>
              <a:rPr b="1" i="1" lang="hr-HR" sz="3900" spc="-1" strike="noStrike">
                <a:solidFill>
                  <a:srgbClr val="330066"/>
                </a:solidFill>
                <a:latin typeface="Arial"/>
              </a:rPr>
              <a:t>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Kriterijum najmanjeg kvadr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inimizira se suma kvadrata razdaljine stvarnih i predviđenih vrednosti 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Jedna nezavisna promenliva – ograničenje za primenu u D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258920" y="3716280"/>
                <a:ext cx="18511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3708360" y="3645000"/>
                <a:ext cx="3384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</m:e>
                        </m:nary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Text Box 8"/>
          <p:cNvSpPr/>
          <p:nvPr/>
        </p:nvSpPr>
        <p:spPr>
          <a:xfrm>
            <a:off x="7865280" y="3851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Jednačina višestruke linearne regres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pšti oblik jednač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)=a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+...+a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nezavisne promenlj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- k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 - zavisna promenljiv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- presek sa y o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Višestruka linearna regres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XCEL podržava prostu i višestruku regresi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INEST f-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mer iz Microsoft EXCEL-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abela sa podacima o kancelarijskom prostor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zavise prom.: površina, br.kancelarija, br. ulaza, starost z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visna prom.: procenjena 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711360" y="1828800"/>
          <a:ext cx="8432640" cy="37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828800"/>
                    <a:ext cx="84326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Koraci anal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tvorite novu EXCEL tab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nesite podatke  kolone A do E, redove 1 do 12. Prva kolona sadrži nazive atrib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laz LINEST f-je je prostor nxn, gde je n br. Promenljivih korištenih u regresiji. (n=5) Osvetlite ovoliko prazno područje za prikaz izlaza f-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kucajte f-ju: =LINEST(E2:E12,A2:D12,TRUE,TR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tisnite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Ctrl + Shift + Enter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 se prikaže rezultat u osvetljenom delu tabe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Koraci anal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tvorite novu EXCEL tab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nesite podatke  kolone A do E, redove 1 do 12. Prva kolona sadrži nazive atrib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laz LINEST f-je je prostor nxn, gde je n br. Promenljivih korištenih u regresiji. (n=5) Osvetlite ovoliko prazno područje za prikaz izlaza f-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kucajte f-ju: =LINEST(E2:E12,A2:D12,TRUE,TR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tisnite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Ctrl + Shift + Enter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 s prikaže rezultat u osvetljenom delu tabe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900000" y="2276640"/>
            <a:ext cx="2232000" cy="1295280"/>
          </a:xfrm>
          <a:prstGeom prst="wedgeRectCallout">
            <a:avLst>
              <a:gd name="adj1" fmla="val 48365"/>
              <a:gd name="adj2" fmla="val 1427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učje zavisne p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419640" y="1700280"/>
            <a:ext cx="2879640" cy="1150920"/>
          </a:xfrm>
          <a:prstGeom prst="wedgeRectCallout">
            <a:avLst>
              <a:gd name="adj1" fmla="val -19129"/>
              <a:gd name="adj2" fmla="val 2146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učje nezavisne p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003640" y="2924280"/>
            <a:ext cx="4140360" cy="1584360"/>
          </a:xfrm>
          <a:prstGeom prst="wedgeRectCallout">
            <a:avLst>
              <a:gd name="adj1" fmla="val -41754"/>
              <a:gd name="adj2" fmla="val 7264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LSE – b će biti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UE ili izostavljeno, b se izračun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168120" y="5300640"/>
            <a:ext cx="5699160" cy="1297080"/>
          </a:xfrm>
          <a:prstGeom prst="wedgeRectCallout">
            <a:avLst>
              <a:gd name="adj1" fmla="val 65879"/>
              <a:gd name="adj2" fmla="val -5918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LSE – vraćaju se samo koef. regresije, u suprotnom i statistika efikasnosti jednačine regr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08:14:40Z</dcterms:created>
  <dc:creator>Prof. dr Sasa Bosnjak</dc:creator>
  <dc:description/>
  <dc:language>en-US</dc:language>
  <cp:lastModifiedBy>Zita Bosnjak</cp:lastModifiedBy>
  <dcterms:modified xsi:type="dcterms:W3CDTF">2018-03-29T07:26:41Z</dcterms:modified>
  <cp:revision>108</cp:revision>
  <dc:subject/>
  <dc:title>Statističke tehnike DM</dc:title>
</cp:coreProperties>
</file>