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F44-6367-4A80-BEE1-06BE55BD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197-9986-4FAF-8C4B-5A2705F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80-3BD5-4CF6-9A55-6EC217BA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437-A194-4D2C-A8DC-F931334C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E77-216F-49BA-8238-4466279E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C19-7EF3-4E73-8B29-9A3009C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08F-9C75-4C43-AE2E-9D7F0F21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900-09EF-4B29-AF25-605E4A1C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188-774C-446F-9BA1-41195FEC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A44-B95D-4E53-AFD0-DB2F0B89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06E-1B16-4F73-B193-251FA11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1FB-C6E4-489B-AC08-5E8BAD5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C10-FA07-4074-8EE3-1A927E66F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0000" t="12800" r="22200" b="20266"/>
          <a:stretch/>
        </p:blipFill>
        <p:spPr>
          <a:xfrm>
            <a:off x="457200" y="104760"/>
            <a:ext cx="838188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rcRect l="30600" t="29396" r="22800" b="19200"/>
          <a:stretch/>
        </p:blipFill>
        <p:spPr>
          <a:xfrm>
            <a:off x="0" y="2286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0:54:36Z</dcterms:created>
  <dc:creator>Zita Bosnjak</dc:creator>
  <dc:description/>
  <dc:language>en-US</dc:language>
  <cp:lastModifiedBy>Zita Bosnjak</cp:lastModifiedBy>
  <dcterms:modified xsi:type="dcterms:W3CDTF">2017-02-10T12:07:33Z</dcterms:modified>
  <cp:revision>2</cp:revision>
  <dc:subject/>
  <dc:title>Slide 1</dc:title>
</cp:coreProperties>
</file>