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767-2312-400D-A607-3E6B7253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5B3-0CCD-4432-92B1-BC1614DD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958-28AF-4CEC-B99C-CAC97644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DE0-68B1-4856-B8F1-F9DF9F60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D0D5-97A4-47F0-857E-422A51B5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0B88-A749-4660-AE52-5A935AAD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AB76-5EBA-418A-B19B-C370585A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4896-EFB8-42C1-A741-E49C2D17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0F84-C884-4D8A-91BD-076A7426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7C09-645C-4045-AC56-A7E4FE22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6C59-AD2F-4ED3-8B6B-3EEF9FD9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EC3-676D-4D7B-9BFB-892FB577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000F-851C-4842-A32C-A3BA09F0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AA4D-C40B-4934-9DEB-97996100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FE1B-854E-4194-BCB4-0C495663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F408-CD83-4E02-8ABA-A37348E0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6B97-5E41-465C-96CF-9447EFB6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E1FF1-679A-4C95-B59C-4E1B59AD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8A8A-12FC-473F-85FE-E915C612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5D71-9553-4E48-B3F7-4A7B0D66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6CF6-2A8C-4F2B-AAF7-A92FC78D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5587-FFBD-42C1-8975-EE9F4D0E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E23-EF72-4E7B-86C1-A29BE964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38C7-D084-4CF0-B44B-657203A6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E8A56-7AD5-4328-9B2A-446EE5A3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5A4A-64D2-4AE3-9A4D-2335F6BC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BA20-2223-4DB7-A428-DE782631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DA43-2E75-4E5C-90E3-BF4BEB27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FAE1B-6F08-44B3-B81D-B57C0798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3FFA-FAC9-4CC3-98D5-CCC47B66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1E236-5A36-4EF8-BBD7-2E190750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F5B0-343C-43DA-A1E3-8588F0DB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8EBE2-6233-4F28-8984-AAF82C6C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05F-AE13-444A-805E-E6565FB2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EC382-BB0D-4022-A639-FD1694B2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760B4-E56F-4B7D-A52D-3E4C7F31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2FDD7-5962-4D18-850A-B789AE53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EC43B-B530-4385-B36E-0074396E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09CDB-03EB-4F7E-AA0E-AC07B6AC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D2D2-A698-4F8B-9114-9DAB86E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CA2F0-C9BE-4954-B210-B8831F4E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91E6-F1A3-44F5-9879-EF718BB8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51FBF-34F2-418B-9423-D4AFC515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2F5A1-05C3-4FC8-B5D7-E3DF8D0F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3FF-39C2-44C2-8FF6-2A553C38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7D6DC-755E-4C14-90B4-933CACF0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D9175-DFCC-4A45-9162-C4715480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A2BA5-0389-4FB4-A94A-356BF6F0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C145E-3DB1-4EFC-A132-A25F2B83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951D1-2230-4F3A-A8AD-452A5569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88332-CDE7-44E5-86AF-D24DD8C0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A1998-EAAF-4928-B538-AE2019A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0CC3E-7C72-4690-A03E-93639C77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C3EE-7C74-4454-82B8-A2B652EC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EC7B5-B44E-4371-A68E-184AFE56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577-689C-4152-B852-7B468817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F5427-DE9B-4CD5-BE28-CFF9395F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92877-1A19-45E6-B7B8-E6EF217B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29D5D-4C1D-4AF3-81C6-CE446D60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DD5BD-3DBB-4872-83B4-3F707F2C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94468-4009-4A45-9BEB-8D348F16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2F1E7-5489-4515-A53B-AB88531C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6141A-AAB6-489A-A64D-CD426BC5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6FC8E-EE42-4DC1-A11F-BA2FB75E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1B509-127C-4DD1-9D4F-2C45AC67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32B05-5500-4C20-9DF5-954DB96A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657-DAD6-42E2-9398-C2C0C742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2167A-8951-4A6D-94EE-5A57C236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C3F85-1070-49CB-95C6-D3B22BFC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92128-B165-4C9F-A1E8-F49A5609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69084-6E59-46C7-8EEC-712D9FC9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C8783-849A-4E89-9B26-45C5E225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3C9A2-1912-4506-8977-4739BAEE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6C905-53F3-433B-9D1F-19183DE5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C5F5C-8ED5-4A15-8E7D-CAF50330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E4B46-CAA0-4B57-B229-5B12D45A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EEEA0-FC77-4A4E-9DB2-62CD73BF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44E-9D19-4A19-A326-9CB8A7BC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46BE4-EDBB-4672-ABA5-EEA155BE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1E33F-E6D8-492C-B9F9-701940C0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26EC9-FF18-49A1-8133-9C20ADA9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39271-5A24-4D2D-BCC8-E515256B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991DE-09D3-4F83-90F9-71594743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F1E02-A0C5-4749-A1C1-DD31D5F4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59D13-C169-4920-9330-4E8175AA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D83FA-8B70-40C5-8C97-C92B5F3D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118EC-6ED6-4319-B7C0-A172E329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9021A-99A5-4BF9-BBCF-39915D19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C50-B42C-47C4-A601-516727DC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B7860-C0CE-4CCA-A8A3-93C8B820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31E4C-CA67-4180-850D-97BC83C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C2707-3BD4-455A-9A72-7F2AA322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3BC7B-E12C-4621-8654-ECDECD48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F8552-51BD-4110-A679-D16840F5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1E007-7AEE-4E74-AC37-C179A7C2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F9B67-050A-4E62-B44C-124230DE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4465-D2BD-470D-9009-19C3E2AB80E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39AA-A7A1-42EB-91A4-95F41B8E332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2105-72A3-4CB6-BB3C-57250C7D918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F905-45C6-4F9E-9720-C75FCEB028F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E643-3884-479A-8CF4-1DCEA6EBC84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6CFF-91FE-4AA3-8D3E-F5643B62A35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4309-5737-4B3D-9B7B-0D6493EF5D0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3BA2-F2E0-4ED3-9E07-3A04334D851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tatpages.org/logistic.html" TargetMode="External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atpages.org/logistic.html%20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tatističke tehnike DM – logaritamska regres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Metode i tehnike analize podatak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Prof. dr Zita Bošnja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rcRect l="0" t="13866" r="52800" b="4267"/>
          <a:stretch/>
        </p:blipFill>
        <p:spPr>
          <a:xfrm>
            <a:off x="2000160" y="96840"/>
            <a:ext cx="6929640" cy="6761160"/>
          </a:xfrm>
          <a:prstGeom prst="rect">
            <a:avLst/>
          </a:prstGeom>
          <a:ln w="0">
            <a:noFill/>
          </a:ln>
        </p:spPr>
      </p:pic>
      <p:pic>
        <p:nvPicPr>
          <p:cNvPr id="405" name="TextBox 5" descr=""/>
          <p:cNvPicPr/>
          <p:nvPr/>
        </p:nvPicPr>
        <p:blipFill>
          <a:blip r:embed="rId2"/>
          <a:stretch/>
        </p:blipFill>
        <p:spPr>
          <a:xfrm>
            <a:off x="1036800" y="208080"/>
            <a:ext cx="8888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0"/>
          <p:cNvGraphicFramePr/>
          <p:nvPr/>
        </p:nvGraphicFramePr>
        <p:xfrm>
          <a:off x="1000080" y="1285920"/>
          <a:ext cx="774864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285920"/>
                    <a:ext cx="774864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2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daci za analizu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"/>
          <p:cNvSpPr/>
          <p:nvPr/>
        </p:nvSpPr>
        <p:spPr>
          <a:xfrm>
            <a:off x="2571840" y="2214720"/>
            <a:ext cx="4429080" cy="342900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4148280" y="5572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L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7219440" y="5429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L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rcRect l="0" t="12800" r="57603" b="14933"/>
          <a:stretch/>
        </p:blipFill>
        <p:spPr>
          <a:xfrm>
            <a:off x="127080" y="460440"/>
            <a:ext cx="6673680" cy="639756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2"/>
          <p:cNvSpPr/>
          <p:nvPr/>
        </p:nvSpPr>
        <p:spPr>
          <a:xfrm>
            <a:off x="3643200" y="4857840"/>
            <a:ext cx="857520" cy="1428840"/>
          </a:xfrm>
          <a:prstGeom prst="rect">
            <a:avLst/>
          </a:prstGeom>
          <a:solidFill>
            <a:srgbClr val="3891a7">
              <a:alpha val="37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5429160" y="385776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Stvarne vs. izračunate v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5429160" y="3643200"/>
            <a:ext cx="3429000" cy="785880"/>
          </a:xfrm>
          <a:prstGeom prst="rect">
            <a:avLst/>
          </a:prstGeom>
          <a:solidFill>
            <a:srgbClr val="3891a7">
              <a:alpha val="37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Straight Arrow Connector 6"/>
          <p:cNvCxnSpPr>
            <a:stCxn id="415" idx="1"/>
            <a:endCxn id="413" idx="0"/>
          </p:cNvCxnSpPr>
          <p:nvPr/>
        </p:nvCxnSpPr>
        <p:spPr>
          <a:xfrm flipH="1">
            <a:off x="4071600" y="4037040"/>
            <a:ext cx="1357920" cy="821520"/>
          </a:xfrm>
          <a:prstGeom prst="straightConnector1">
            <a:avLst/>
          </a:prstGeom>
          <a:ln w="3492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7" name="Rectangle 7"/>
          <p:cNvSpPr/>
          <p:nvPr/>
        </p:nvSpPr>
        <p:spPr>
          <a:xfrm>
            <a:off x="1071720" y="0"/>
            <a:ext cx="6215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StatPages.org/logistic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0"/>
          <p:cNvGraphicFramePr/>
          <p:nvPr/>
        </p:nvGraphicFramePr>
        <p:xfrm>
          <a:off x="54000" y="1197000"/>
          <a:ext cx="9090000" cy="42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1197000"/>
                    <a:ext cx="909000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Rectangle 3"/>
          <p:cNvSpPr/>
          <p:nvPr/>
        </p:nvSpPr>
        <p:spPr>
          <a:xfrm>
            <a:off x="7812000" y="1773360"/>
            <a:ext cx="1000080" cy="3500280"/>
          </a:xfrm>
          <a:prstGeom prst="rect">
            <a:avLst/>
          </a:prstGeom>
          <a:solidFill>
            <a:srgbClr val="3891a7">
              <a:alpha val="37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258560" y="642960"/>
            <a:ext cx="7599240" cy="6572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119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320e04"/>
                </a:solidFill>
                <a:latin typeface="Gill Sans MT"/>
              </a:rPr>
              <a:t>N</a:t>
            </a:r>
            <a:r>
              <a:rPr b="1" lang="sl-SI" sz="2400" spc="-1" strike="noStrike">
                <a:solidFill>
                  <a:srgbClr val="320e04"/>
                </a:solidFill>
                <a:latin typeface="Gill Sans MT"/>
              </a:rPr>
              <a:t>elinearna regresiona tehnika </a:t>
            </a:r>
            <a:r>
              <a:rPr b="0" lang="sl-SI" sz="2400" spc="-1" strike="noStrike">
                <a:solidFill>
                  <a:srgbClr val="320e04"/>
                </a:solidFill>
                <a:latin typeface="Gill Sans MT"/>
              </a:rPr>
              <a:t>koja pridružuje uslovnu verovatnoću svakom entitet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320e04"/>
                </a:solidFill>
                <a:latin typeface="Gill Sans MT"/>
              </a:rPr>
              <a:t>Odgovara na pitanja sledećeg oblik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Kako se menja verovatnoća da se dobije rak pluća,(DA vs. NE) sa svakim viškom kilograma i paklom popušenih cigareta dnevno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Da li težina, unete kalorije, unete masnoće i godine imaju uticaja na verovatnoću dobijanja infakta?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(</a:t>
            </a: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DA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vs. </a:t>
            </a: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NE)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20e04"/>
                </a:solidFill>
                <a:latin typeface="Gill Sans MT"/>
              </a:rPr>
              <a:t>Osnovne pretpostavke</a:t>
            </a: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Zavisna promenljiva je dihotomna (npr. prisustvo/odsustvo pojave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U podacima ne sme biti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outl</a:t>
            </a: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ejera (proveravamo konverzijom  kontinualnih podataka u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standardiz</a:t>
            </a: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ovanu vrednost i uklanjanjem vrednosti manjih od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-3.29 </a:t>
            </a: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ili većih od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3.29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Ne sme biti visoke korelacije (multikolinearnost)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među prediktorima. (pravimo matricu korelacije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1071720" y="0"/>
            <a:ext cx="75438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572314"/>
                </a:solidFill>
                <a:latin typeface="Gill Sans MT"/>
              </a:rPr>
              <a:t>II Logaritamska regres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141200" y="1754280"/>
            <a:ext cx="8002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f(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,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,...,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)=a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+a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+...+a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+c    (1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f(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,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,...,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)=0 →     živ.osig.=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f(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,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,...,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)=1 →     </a:t>
            </a:r>
            <a:r>
              <a:rPr b="0" lang="hr-HR" sz="2600" spc="-1" strike="noStrike">
                <a:solidFill>
                  <a:srgbClr val="00b050"/>
                </a:solidFill>
                <a:latin typeface="Gill Sans MT"/>
              </a:rPr>
              <a:t>živ.osig.=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išem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(</a:t>
            </a:r>
            <a:r>
              <a:rPr b="0" lang="hr-HR" sz="2600" spc="-1" strike="noStrike">
                <a:solidFill>
                  <a:srgbClr val="00b050"/>
                </a:solidFill>
                <a:latin typeface="Gill Sans MT"/>
              </a:rPr>
              <a:t>y=1</a:t>
            </a:r>
            <a:r>
              <a:rPr b="0" lang="hr-HR" sz="2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) = a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+a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+...+a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+c      (2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evodimo u normalizovan oblik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(tzv. log odd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Logaritmujem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5562720" y="4191120"/>
                <a:ext cx="2171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195640" y="5562720"/>
                <a:ext cx="6948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2"/>
          <p:cNvSpPr/>
          <p:nvPr/>
        </p:nvSpPr>
        <p:spPr>
          <a:xfrm>
            <a:off x="1258920" y="260280"/>
            <a:ext cx="7010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572314"/>
                </a:solidFill>
                <a:latin typeface="Gill Sans MT"/>
              </a:rPr>
              <a:t>Transformacija linearnog</a:t>
            </a: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l-SI" sz="4400" spc="-1" strike="noStrike">
                <a:solidFill>
                  <a:srgbClr val="572314"/>
                </a:solidFill>
                <a:latin typeface="Gill Sans MT"/>
              </a:rPr>
              <a:t>modela regres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 Logaritamska regres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6480" y="1483920"/>
            <a:ext cx="81471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Rešavamo j-nu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Dobijam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(3)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1403280" y="4005360"/>
                <a:ext cx="35384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1258920" y="2133720"/>
                <a:ext cx="6948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Text Box 13"/>
          <p:cNvSpPr/>
          <p:nvPr/>
        </p:nvSpPr>
        <p:spPr>
          <a:xfrm>
            <a:off x="1403280" y="522936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dc765"/>
                </a:solidFill>
                <a:latin typeface="Gill Sans MT"/>
              </a:rPr>
              <a:t>Model log</a:t>
            </a:r>
            <a:r>
              <a:rPr b="0" lang="en-US" sz="2800" spc="-1" strike="noStrike">
                <a:solidFill>
                  <a:srgbClr val="8dc765"/>
                </a:solidFill>
                <a:latin typeface="Gill Sans MT"/>
              </a:rPr>
              <a:t>aritamske</a:t>
            </a:r>
            <a:r>
              <a:rPr b="0" lang="hr-HR" sz="2800" spc="-1" strike="noStrike">
                <a:solidFill>
                  <a:srgbClr val="8dc765"/>
                </a:solidFill>
                <a:latin typeface="Gill Sans MT"/>
              </a:rPr>
              <a:t> regr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 Logaritamska regres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6480" y="1483920"/>
            <a:ext cx="81471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Rešavamo j-nu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Dobijam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(3)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11"/>
              <p:cNvSpPr txBox="1"/>
              <p:nvPr/>
            </p:nvSpPr>
            <p:spPr>
              <a:xfrm>
                <a:off x="1403280" y="4005360"/>
                <a:ext cx="35384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5"/>
              <p:cNvSpPr txBox="1"/>
              <p:nvPr/>
            </p:nvSpPr>
            <p:spPr>
              <a:xfrm>
                <a:off x="1258920" y="2133720"/>
                <a:ext cx="6948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 Box 13"/>
          <p:cNvSpPr/>
          <p:nvPr/>
        </p:nvSpPr>
        <p:spPr>
          <a:xfrm>
            <a:off x="1403280" y="522936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dc765"/>
                </a:solidFill>
                <a:latin typeface="Gill Sans MT"/>
              </a:rPr>
              <a:t>Model log</a:t>
            </a:r>
            <a:r>
              <a:rPr b="0" lang="en-US" sz="2800" spc="-1" strike="noStrike">
                <a:solidFill>
                  <a:srgbClr val="8dc765"/>
                </a:solidFill>
                <a:latin typeface="Gill Sans MT"/>
              </a:rPr>
              <a:t>aritamske</a:t>
            </a:r>
            <a:r>
              <a:rPr b="0" lang="hr-HR" sz="2800" spc="-1" strike="noStrike">
                <a:solidFill>
                  <a:srgbClr val="8dc765"/>
                </a:solidFill>
                <a:latin typeface="Gill Sans MT"/>
              </a:rPr>
              <a:t> regr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7"/>
          <p:cNvSpPr/>
          <p:nvPr/>
        </p:nvSpPr>
        <p:spPr>
          <a:xfrm>
            <a:off x="5724360" y="3213000"/>
            <a:ext cx="3419640" cy="2089080"/>
          </a:xfrm>
          <a:prstGeom prst="wedgeRectCallout">
            <a:avLst>
              <a:gd name="adj1" fmla="val -73370"/>
              <a:gd name="adj2" fmla="val 153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x+c se izračunava iterativ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inimizira se suma logaritama predviđenih vred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500" spc="-1" strike="noStrike">
                <a:solidFill>
                  <a:srgbClr val="572314"/>
                </a:solidFill>
                <a:latin typeface="Gill Sans MT"/>
              </a:rPr>
              <a:t>Jednačina logaritamske regresije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86" name="Object 13"/>
          <p:cNvGraphicFramePr/>
          <p:nvPr/>
        </p:nvGraphicFramePr>
        <p:xfrm>
          <a:off x="1052640" y="1557360"/>
          <a:ext cx="8091360" cy="47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557360"/>
                    <a:ext cx="809136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imer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enom logaritamskog regresionog modela na bazu podataka o komitetima vlasnicima kred. kartica je dobijena jednačin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hr-HR" sz="3200" spc="-1" strike="noStrike">
                <a:solidFill>
                  <a:srgbClr val="000000"/>
                </a:solidFill>
                <a:latin typeface="Gill Sans MT"/>
              </a:rPr>
              <a:t>ax+c = 0.0001 Primanja+19.827 Osig.k.k. –    - 8.314 Pol – 0.415 Godine + 17.69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veći uticaj: Osig.k.k i p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ali uticaj: Lična prima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J-nu možemo primeniti na nove komiten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mplementacija log. reg. model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	http://StatPages.org/logistic.html 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imer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enom logaritamskog regresionog modela na bazu podataka o komitetima vlasnicima kred. kartica je dobijena jednačin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hr-HR" sz="3200" spc="-1" strike="noStrike">
                <a:solidFill>
                  <a:srgbClr val="000000"/>
                </a:solidFill>
                <a:latin typeface="Gill Sans MT"/>
              </a:rPr>
              <a:t>ax+c = 0.0001 Primanja+19.827 Osig.k.k. –    - 8.314 Pol – 0.415 Godine + 17.69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veći uticaj: Osig.k.k i p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ali uticaj: Lična prima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J-nu možemo primeniti na nove komiten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mplementacija log. reg. modela: 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http://members.aol.com/johnp71/logistic.htm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611280" y="1268280"/>
            <a:ext cx="6840360" cy="3529080"/>
          </a:xfrm>
          <a:prstGeom prst="wedgeRectCallout">
            <a:avLst>
              <a:gd name="adj1" fmla="val 28856"/>
              <a:gd name="adj2" fmla="val 6839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imanja =35 000 mese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Osig. kred.kart =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ol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Godina =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hr-HR" sz="2800" spc="-1" strike="noStrike" baseline="30000">
                <a:solidFill>
                  <a:srgbClr val="000000"/>
                </a:solidFill>
                <a:latin typeface="Gill Sans MT"/>
              </a:rPr>
              <a:t>ax+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(1+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ax+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=0.999 </a:t>
            </a:r>
            <a:r>
              <a:rPr b="0" lang="hr-H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verovatni kandidat 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ovu promociju živ.os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imer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enom logaritamskog regresionog modela na bazu podataka o komitetima vlasnicima kred. kartica je dobijena jednačin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hr-HR" sz="3200" spc="-1" strike="noStrike">
                <a:solidFill>
                  <a:srgbClr val="000000"/>
                </a:solidFill>
                <a:latin typeface="Gill Sans MT"/>
              </a:rPr>
              <a:t>ax+c = 0.0001 Primanja+19.827 Osig.k.k. –    - 8.314 Pol – 0.415 Godine + 17.69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veći uticaj: Osig.k.k i p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ali uticaj: Lična prima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J-nu možemo primeniti na nove komiten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611280" y="1268280"/>
            <a:ext cx="6840360" cy="3529080"/>
          </a:xfrm>
          <a:prstGeom prst="wedgeRectCallout">
            <a:avLst>
              <a:gd name="adj1" fmla="val 28856"/>
              <a:gd name="adj2" fmla="val 6839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imanja: 35 000 mese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Osig. kred.kart: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ol: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Godina: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=0.999 </a:t>
            </a:r>
            <a:r>
              <a:rPr b="0" lang="hr-H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verovatni kandidat 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ovu promociju živ.os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 flipV="1">
            <a:off x="2843280" y="1844280"/>
            <a:ext cx="43164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141000" y="16430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Gill Sans MT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 flipV="1">
            <a:off x="1571760" y="3428640"/>
            <a:ext cx="57600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1280880" y="31431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Gill Sans MT"/>
              </a:rPr>
              <a:t>0.0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 flipV="1">
            <a:off x="1332000" y="2205000"/>
            <a:ext cx="28872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502280" y="20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1"/>
          <p:cNvSpPr/>
          <p:nvPr/>
        </p:nvSpPr>
        <p:spPr>
          <a:xfrm flipV="1">
            <a:off x="2571840" y="3642840"/>
            <a:ext cx="25718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3862800" y="303696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Gill Sans MT"/>
              </a:rPr>
              <a:t>slab iz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6:57:24Z</dcterms:created>
  <dc:creator>Zita</dc:creator>
  <dc:description/>
  <dc:language>en-US</dc:language>
  <cp:lastModifiedBy>Zita Bosnjak</cp:lastModifiedBy>
  <dcterms:modified xsi:type="dcterms:W3CDTF">2018-03-13T11:53:43Z</dcterms:modified>
  <cp:revision>34</cp:revision>
  <dc:subject/>
  <dc:title>Statističke tehnike DM – logaritamska regresija</dc:title>
</cp:coreProperties>
</file>