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BDA-F41B-413F-9E30-A37BDC0E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FE1-347E-44B6-908A-DAE2CEED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524-B245-43BA-B394-126C33D6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A11-706B-4BAF-B981-17600D69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ADA8-0A23-42C8-B642-FA127FC4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691B-B0D6-4368-B06D-95F4F8E7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37F8-ED99-4B21-8B2E-57662C9F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1872-6AE4-4124-AB5B-4EAA86A5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EC97-868E-4687-90E5-37D378FA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A29B-99F7-4E28-AF1F-192C7948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E3E0-CCDF-4D15-B6F3-5A548BE6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64A-2231-4D95-9E9A-5F743301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9954-5177-407C-81B2-CD613175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08A0-E912-4A55-965C-BD5B7DDD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21DA-EA18-40E6-83F4-224002FC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3A0A-5D92-4D89-86AC-7A090E58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5172-0554-460C-A3A7-B1AD26AC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255-0469-4D40-B42E-5BDE64F5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56A-1E1D-4B62-971B-733172A9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C2D-392E-46F6-B8B2-B3A0ED2A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D69-7E42-44F1-8D7B-628E6595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F07-A767-4795-BCA3-075094B3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E85-AB37-4B4E-9C9E-D4A27B9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D7C-8B50-4592-BDC9-4746135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99E0-B79B-4AF5-B43B-7663434E7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CD8B-B2EF-443C-B085-989D654199D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Pravljenje rasporeda održavanja energetskih postrojenja pomoću genetičkih algorita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ija slu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ča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rof. dr Zita Boš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edstavljanje rešenja kao hromozoma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351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Rešenje proble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reiranje 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“korpe gen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eo od 4 bita se posmatra kao najmanja celina koja se može modifikovati. Svaka modifikacija uzima novu 4-o bitnu celinu iz “korpe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5280" y="3505320"/>
          <a:ext cx="6859800" cy="3203280"/>
        </p:xfrm>
        <a:graphic>
          <a:graphicData uri="http://schemas.openxmlformats.org/drawingml/2006/table">
            <a:tbl>
              <a:tblPr/>
              <a:tblGrid>
                <a:gridCol w="971640"/>
                <a:gridCol w="1306440"/>
                <a:gridCol w="216000"/>
                <a:gridCol w="1336680"/>
                <a:gridCol w="216000"/>
                <a:gridCol w="1336680"/>
                <a:gridCol w="216000"/>
                <a:gridCol w="182160"/>
                <a:gridCol w="1078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1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2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1 0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3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5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6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riterijum optimalnosti – fitnes funkcija F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F se računa kao 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najmanja neto rezerva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koju hromozom postiže tokom godi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Ako je neto rezerva negativna, kombinacija remonta predstavljena hromozomom nije validna i F dobija vrednost 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riterijum optimalnosti – fitnes funkcija F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romozom računamo F kao najmanju neto rezervu, u 2 korak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. korak: Računamo ukupan remontovani kapaci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1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20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35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40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0=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2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20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35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40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0=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3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20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35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40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0=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4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0x20+1x15+1x35+0x40+0x15+0x15+0x10=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2819520"/>
          <a:ext cx="8040960" cy="1120680"/>
        </p:xfrm>
        <a:graphic>
          <a:graphicData uri="http://schemas.openxmlformats.org/drawingml/2006/table">
            <a:tbl>
              <a:tblPr/>
              <a:tblGrid>
                <a:gridCol w="1150920"/>
                <a:gridCol w="1146240"/>
                <a:gridCol w="1149480"/>
                <a:gridCol w="1147680"/>
                <a:gridCol w="1149480"/>
                <a:gridCol w="1146240"/>
                <a:gridCol w="1150920"/>
              </a:tblGrid>
              <a:tr h="609480"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riterijum optimalnosti – fitnes funkcija F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romozom računamo F kao najmanju neto rezervu, u 2 korak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. korak: Odbijamo opterećenje i gubitak kapacit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1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80MW -50MW = 20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2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90MW -35MW = 25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3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65MW -50MW = 35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4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70MW -50MW = 30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2819520"/>
          <a:ext cx="8040960" cy="1120680"/>
        </p:xfrm>
        <a:graphic>
          <a:graphicData uri="http://schemas.openxmlformats.org/drawingml/2006/table">
            <a:tbl>
              <a:tblPr/>
              <a:tblGrid>
                <a:gridCol w="1150920"/>
                <a:gridCol w="1146240"/>
                <a:gridCol w="1149480"/>
                <a:gridCol w="1147680"/>
                <a:gridCol w="1149480"/>
                <a:gridCol w="1146240"/>
                <a:gridCol w="1150920"/>
              </a:tblGrid>
              <a:tr h="609480"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riterijum optimalnosti – fitnes funkcija F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romozom računamo F kao 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najmanju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eto rezervu, u 2 korak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. korak: Odbijamo opterećenje i gubitak kapacit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1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80MW -50MW =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20MW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2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90MW -35MW = 25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3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65MW -50MW = 35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4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70MW -50MW = 30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2819520"/>
          <a:ext cx="8040960" cy="1120680"/>
        </p:xfrm>
        <a:graphic>
          <a:graphicData uri="http://schemas.openxmlformats.org/drawingml/2006/table">
            <a:tbl>
              <a:tblPr/>
              <a:tblGrid>
                <a:gridCol w="1150920"/>
                <a:gridCol w="1146240"/>
                <a:gridCol w="1149480"/>
                <a:gridCol w="1147680"/>
                <a:gridCol w="1149480"/>
                <a:gridCol w="1146240"/>
                <a:gridCol w="1150920"/>
              </a:tblGrid>
              <a:tr h="609480"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Line 44"/>
          <p:cNvSpPr/>
          <p:nvPr/>
        </p:nvSpPr>
        <p:spPr>
          <a:xfrm>
            <a:off x="6705720" y="2514600"/>
            <a:ext cx="121896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13840"/>
            <a:ext cx="856296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Konstruisanje genetičkih operatora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Picture 4" descr="Primer sa GA 1 slika"/>
          <p:cNvPicPr/>
          <p:nvPr/>
        </p:nvPicPr>
        <p:blipFill>
          <a:blip r:embed="rId1"/>
          <a:srcRect l="0" t="5180" r="0" b="0"/>
          <a:stretch/>
        </p:blipFill>
        <p:spPr>
          <a:xfrm>
            <a:off x="1295280" y="1106640"/>
            <a:ext cx="7848720" cy="5459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4782240" y="99072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OPERATOR UKRŠTANJ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952880" y="3809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OPERATOR MUTACIJ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x zamenjujemo genom “iz korp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okretanje G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Odabrati veličinu popul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Odrediti broj iteracija pre zaustavlj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SAMO EKSPERIMENTISANJEM možemo doći do odgovor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okretanje GA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4" descr="primer sa GA slika 2"/>
          <p:cNvPicPr/>
          <p:nvPr/>
        </p:nvPicPr>
        <p:blipFill>
          <a:blip r:embed="rId1"/>
          <a:srcRect l="10450" t="7717" r="17423" b="51821"/>
          <a:stretch/>
        </p:blipFill>
        <p:spPr>
          <a:xfrm>
            <a:off x="3429000" y="1760400"/>
            <a:ext cx="5562720" cy="4932360"/>
          </a:xfrm>
          <a:prstGeom prst="rect">
            <a:avLst/>
          </a:prstGeom>
          <a:ln w="0">
            <a:noFill/>
          </a:ln>
        </p:spPr>
      </p:pic>
      <p:sp>
        <p:nvSpPr>
          <p:cNvPr id="142" name="Oval 5"/>
          <p:cNvSpPr/>
          <p:nvPr/>
        </p:nvSpPr>
        <p:spPr>
          <a:xfrm>
            <a:off x="5257800" y="4038480"/>
            <a:ext cx="4572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017440"/>
            <a:ext cx="3581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e4a8"/>
                </a:solidFill>
                <a:latin typeface="Tahoma"/>
              </a:rPr>
              <a:t>50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generacija, </a:t>
            </a:r>
            <a:r>
              <a:rPr b="0" lang="sr-Latn-CS" sz="2000" spc="-1" strike="noStrike">
                <a:solidFill>
                  <a:srgbClr val="00e4a8"/>
                </a:solidFill>
                <a:latin typeface="Tahoma"/>
              </a:rPr>
              <a:t>20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hromozo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Min. neto rezerva je 15M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02000" y="4451400"/>
            <a:ext cx="342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Kpaciteti izgubljeni remont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reostali kapacite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Max. opterećenj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2895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8"/>
          <p:cNvSpPr/>
          <p:nvPr/>
        </p:nvSpPr>
        <p:spPr>
          <a:xfrm flipV="1">
            <a:off x="4114800" y="4495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9"/>
          <p:cNvSpPr/>
          <p:nvPr/>
        </p:nvSpPr>
        <p:spPr>
          <a:xfrm flipV="1">
            <a:off x="4114800" y="4495680"/>
            <a:ext cx="1905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4114800" y="4648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2819520" y="5791320"/>
            <a:ext cx="2590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2819520" y="57913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3"/>
          <p:cNvSpPr/>
          <p:nvPr/>
        </p:nvSpPr>
        <p:spPr>
          <a:xfrm flipV="1">
            <a:off x="2819520" y="5562360"/>
            <a:ext cx="4114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4114800" y="4648320"/>
            <a:ext cx="3581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5"/>
          <p:cNvSpPr/>
          <p:nvPr/>
        </p:nvSpPr>
        <p:spPr>
          <a:xfrm flipV="1">
            <a:off x="2819520" y="5715000"/>
            <a:ext cx="4952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Oval 16"/>
          <p:cNvSpPr/>
          <p:nvPr/>
        </p:nvSpPr>
        <p:spPr>
          <a:xfrm>
            <a:off x="5486400" y="1676520"/>
            <a:ext cx="2286000" cy="53316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6" descr="primer sa GA slika 2"/>
          <p:cNvPicPr/>
          <p:nvPr/>
        </p:nvPicPr>
        <p:blipFill>
          <a:blip r:embed="rId1"/>
          <a:srcRect l="17423" t="49617" r="20906" b="11026"/>
          <a:stretch/>
        </p:blipFill>
        <p:spPr>
          <a:xfrm>
            <a:off x="3809880" y="1447920"/>
            <a:ext cx="5056200" cy="5102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okretanje GA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6934320" y="4038480"/>
            <a:ext cx="4572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017440"/>
            <a:ext cx="3581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e4a8"/>
                </a:solidFill>
                <a:latin typeface="Tahoma"/>
              </a:rPr>
              <a:t>100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generacija, </a:t>
            </a:r>
            <a:r>
              <a:rPr b="0" lang="sr-Latn-CS" sz="2000" spc="-1" strike="noStrike">
                <a:solidFill>
                  <a:srgbClr val="00e4a8"/>
                </a:solidFill>
                <a:latin typeface="Tahoma"/>
              </a:rPr>
              <a:t>20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hromozo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Min. neto rezerva je 20M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02000" y="4451400"/>
            <a:ext cx="342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Kpaciteti izgubljeni remont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reostali kapacite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Max. opterećenj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2895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4114800" y="4495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9"/>
          <p:cNvSpPr/>
          <p:nvPr/>
        </p:nvSpPr>
        <p:spPr>
          <a:xfrm flipV="1">
            <a:off x="4114800" y="4495680"/>
            <a:ext cx="1905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114800" y="4648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819520" y="5791320"/>
            <a:ext cx="2590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2819520" y="57913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3"/>
          <p:cNvSpPr/>
          <p:nvPr/>
        </p:nvSpPr>
        <p:spPr>
          <a:xfrm flipV="1">
            <a:off x="2819520" y="5562360"/>
            <a:ext cx="4114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4114800" y="4648320"/>
            <a:ext cx="3581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2819520" y="5715000"/>
            <a:ext cx="4952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5562720" y="1447920"/>
            <a:ext cx="2286000" cy="53316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okretanje GA,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4a8"/>
                </a:solidFill>
                <a:latin typeface="Tahoma"/>
              </a:rPr>
              <a:t>10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generacija, </a:t>
            </a:r>
            <a:r>
              <a:rPr b="0" lang="en-US" sz="2400" spc="-1" strike="noStrike">
                <a:solidFill>
                  <a:srgbClr val="00e4a8"/>
                </a:solidFill>
                <a:latin typeface="Tahoma"/>
              </a:rPr>
              <a:t>10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hromozom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Min. neto rezerva je 25M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9900"/>
                </a:solidFill>
                <a:latin typeface="Tahoma"/>
              </a:rPr>
              <a:t>Povećamo verovatnoću mutacije sa 0.001 na 0.01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18" descr="primer sa GA slika 3"/>
          <p:cNvPicPr/>
          <p:nvPr/>
        </p:nvPicPr>
        <p:blipFill>
          <a:blip r:embed="rId1"/>
          <a:srcRect l="0" t="5537" r="0" b="12736"/>
          <a:stretch/>
        </p:blipFill>
        <p:spPr>
          <a:xfrm>
            <a:off x="3886200" y="0"/>
            <a:ext cx="5029200" cy="6746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9"/>
          <p:cNvSpPr/>
          <p:nvPr/>
        </p:nvSpPr>
        <p:spPr>
          <a:xfrm>
            <a:off x="457200" y="55627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DO SADA NAJBOLJI RASPOR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Oval 20"/>
          <p:cNvSpPr/>
          <p:nvPr/>
        </p:nvSpPr>
        <p:spPr>
          <a:xfrm>
            <a:off x="5257800" y="5029200"/>
            <a:ext cx="10666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22"/>
          <p:cNvSpPr/>
          <p:nvPr/>
        </p:nvSpPr>
        <p:spPr>
          <a:xfrm>
            <a:off x="5867280" y="1447920"/>
            <a:ext cx="16765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Oval 23"/>
          <p:cNvSpPr/>
          <p:nvPr/>
        </p:nvSpPr>
        <p:spPr>
          <a:xfrm>
            <a:off x="5334120" y="0"/>
            <a:ext cx="2286000" cy="38088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Oval 24"/>
          <p:cNvSpPr/>
          <p:nvPr/>
        </p:nvSpPr>
        <p:spPr>
          <a:xfrm>
            <a:off x="5257800" y="3581280"/>
            <a:ext cx="2286000" cy="38124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25"/>
          <p:cNvSpPr/>
          <p:nvPr/>
        </p:nvSpPr>
        <p:spPr>
          <a:xfrm flipV="1">
            <a:off x="3733920" y="3809520"/>
            <a:ext cx="1447560" cy="2286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6"/>
          <p:cNvSpPr/>
          <p:nvPr/>
        </p:nvSpPr>
        <p:spPr>
          <a:xfrm flipV="1">
            <a:off x="3733920" y="457200"/>
            <a:ext cx="2057400" cy="35812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imer iz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M. Negnevitsky: Artificial Intelligence – A Guide to Intelligent Systems, str. 233-24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Zadatak raspoređivanja resurs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arakteristike zadatk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mpleksan, težak - uključuje mnoga ograničenja (“borba” za ograničenim resursi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pada u klasu NP-kompletni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oblema (ne može se rešiti tehnikama kombinatornog traganj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edeterministički </a:t>
            </a: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linomski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mpletan - odgovori su DA ili NE. Jednostavan algoritam može naći rešenje, ali su ona mnogobrojna i da bi smo svako proverili, treba suviše mnogo vremen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oblem (cilj pravljenja rasporeda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Naći sekvencu isključivanja naponskih jedinica u zadatom vremenskom intervalu - 1 godina – tako da se maksimizira sigurnost sistema napajan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Ograničenj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istem mora omogućiti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neto rezervn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ličinu energije čak i kada su neki delovi sistema isključeni radi održava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NETO REZERVA(t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UKUPNI KAPACITE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r-Latn-CS" sz="3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GUBITAK ENERGIJE(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MAX. PREDVIĐENO OPTEREĆENJE (t)</a:t>
            </a:r>
            <a:r>
              <a:rPr b="1" lang="sr-Latn-CS" sz="4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pr.: Ukupni kapacitet: 150MW, a planira se isključenje jedinice koja generiše 20MW u vremenu kada se troši 100MW, znači NETO REZERVU od 30M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Ograničenja, 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ostoji 7 naponskih jedinica (N.J) koje se remontuju svake godine, u trajanju od 3 ili 6 meseci (1 ili 2 uzastopna intervala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Max. opterećenja po kvartalima su:      80, 90, 65 i 70M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45120" y="2017800"/>
          <a:ext cx="3809880" cy="4145040"/>
        </p:xfrm>
        <a:graphic>
          <a:graphicData uri="http://schemas.openxmlformats.org/drawingml/2006/table">
            <a:tbl>
              <a:tblPr/>
              <a:tblGrid>
                <a:gridCol w="1270080"/>
                <a:gridCol w="1269720"/>
                <a:gridCol w="127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.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Kapacitet</a:t>
                      </a:r>
                      <a:r>
                        <a:rPr b="0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Ograničenja, 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Održavanje svake N.J počinje početkom kvartala i traje 1 ili 2 intervala u kontinuite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Neto rezerva el. snage treba da je u svakom trenutku veća od n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edstavljanje rešenja kao hromozom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Očigledan, ali ne i najuspešniji nač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Ceo raspored da bude predstavljen kao niz sukcesivnih poslova, fiksne dužine, u binarnom formatu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pr., održavanje postrojenja bi moglo uslediti u redosledu: 1,4,6,3,2,5,7,9,8, tj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0100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0011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0101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1001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oblem: Remont postojenja može ići simultano za više N.J, a dužina remonta nije uključena u hromozom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edstavljanje rešenja kao hromozoma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1828800"/>
            <a:ext cx="7580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romozom je kombinacija vremena remontiranja svake od 7 jedin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Ukrštanje i mutacija mogu rezultovati 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pogrešnim rezultatom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(npr. NJ 1 posle mutacije može postati 011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0, kao da se remontuje u 3 intervala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2895480"/>
          <a:ext cx="8345520" cy="1371600"/>
        </p:xfrm>
        <a:graphic>
          <a:graphicData uri="http://schemas.openxmlformats.org/drawingml/2006/table">
            <a:tbl>
              <a:tblPr/>
              <a:tblGrid>
                <a:gridCol w="1193760"/>
                <a:gridCol w="1190520"/>
                <a:gridCol w="1192320"/>
                <a:gridCol w="1191960"/>
                <a:gridCol w="1192320"/>
                <a:gridCol w="1190520"/>
                <a:gridCol w="1194120"/>
              </a:tblGrid>
              <a:tr h="777960"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0:48:46Z</dcterms:created>
  <dc:creator>Zita B.</dc:creator>
  <dc:description/>
  <dc:language>en-US</dc:language>
  <cp:lastModifiedBy>Zita Bosnjak</cp:lastModifiedBy>
  <dcterms:modified xsi:type="dcterms:W3CDTF">2014-06-10T10:18:36Z</dcterms:modified>
  <cp:revision>32</cp:revision>
  <dc:subject/>
  <dc:title>Pravljenje rasporeda održavanja postrojenja pomoću GA</dc:title>
</cp:coreProperties>
</file>