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C33-BA2C-4DC4-B2D9-74A0AE9E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6FF-00E2-4E99-8B3B-8459941D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BF0-1527-4368-BDAD-81C2F682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795-A02D-4881-8E3D-7B001755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9C0F-AB49-4E63-A256-DF7601EE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5665-191B-4162-9053-7EC09D96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1924-A773-42D7-9AD3-7BB6A9B1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A14F-B2DF-45EA-AAFA-4E6FD3A5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8534-0D02-4096-B0BF-B2E90B7D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4E3F-22A7-4E80-AF76-CAA65DF1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838F-048D-466B-B560-C4550BC6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ACF-2115-417B-A33A-543F49D8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4CF3-0B0C-4D3E-9728-87C4ED6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B7AD-2049-4A55-8FE1-D58A2249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D675-CCAF-4C3A-A822-71C65549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C6D2-68E1-493A-B2FC-E3021EAD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CEFB-27F7-4E5D-8A2E-02F8027A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549-07F8-4219-8BCB-91BEA949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59B-5410-42BB-B5A8-ACD8FA4E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2B6-5988-463D-A7A9-A4E9A453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117-88C1-4E70-82A8-6B52B8B1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D9C-A651-49E0-931C-E64DDDE1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A7D-ED62-456E-8F15-90EB9A38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AE3-737F-4FA2-993A-2C5F19F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E1CA-7CC4-4B9A-8E63-ECE24D1C8D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F596-C16A-4D21-9152-F7983F3C13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GA i problem putujućeg trgovca</a:t>
            </a: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Metode i tehnike analize podata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Prof. dr Zita Bošnja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     A D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     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B C D E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D B         A C E B 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00480" y="5068800"/>
            <a:ext cx="0" cy="838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0048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48040" y="51102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59200" y="49150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5638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00cc00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6035760"/>
            <a:ext cx="2057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1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21120" y="6019920"/>
            <a:ext cx="1920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2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86440" y="502776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86440" y="48751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34000" y="50688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45160" y="48736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55160" y="4721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24360" y="50688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68920" y="553248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32160" y="5051520"/>
            <a:ext cx="228600" cy="3045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37200" y="4721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5136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80000" y="566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5592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74920" y="57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9440" y="50292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52440" y="468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64360" y="54864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64360" y="50292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66080" y="46054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64640" y="5648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2040" y="5562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54040" y="4876920"/>
            <a:ext cx="304920" cy="10666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93800" y="4889520"/>
            <a:ext cx="30492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15200" y="514044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15200" y="498780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763120" y="518148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774280" y="498636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88200" y="4900680"/>
            <a:ext cx="609840" cy="106668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Tipični rezultati GA </a:t>
            </a:r>
            <a:r>
              <a:rPr b="0" lang="sl-SI" sz="32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sl-SI" sz="2800" spc="-1" strike="noStrike">
                <a:solidFill>
                  <a:srgbClr val="660066"/>
                </a:solidFill>
                <a:latin typeface="Tahoma"/>
              </a:rPr>
              <a:t>za ovaj problem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Za 100 slučajno generisanih gradova,  posle 20 000 generacij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cena celokupnog obilaska je za 9,4% veća od minimal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Definicija probl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Putujući trgovac mora posetiti sve gradove na svojoj teritoriji tačno jednom i vratiti se u početni gr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Ako znamo troškove prevoza između gradova, kako da osmislimo maršrutu tako da troškovi budu minimalni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Karakteristike probl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Problem kombinatorme optimiza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Grafička reprezentacija problem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neusmeren, ponderisani gra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vako potencijalno rešenje je permutacija gradova. Npr: A D E B C (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Nisu sve permutacije validne - ne mora postojati direktna veza među svim gradov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dodelićemo neprirodno veliku vrednost tim “konekcijama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Primer grafa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 optimalno re</a:t>
            </a: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š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nj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76520" y="1487520"/>
            <a:ext cx="5841000" cy="2932920"/>
            <a:chOff x="1676520" y="1487520"/>
            <a:chExt cx="5841000" cy="2932920"/>
          </a:xfrm>
        </p:grpSpPr>
        <p:grpSp>
          <p:nvGrpSpPr>
            <p:cNvPr id="216" name=""/>
            <p:cNvGrpSpPr/>
            <p:nvPr/>
          </p:nvGrpSpPr>
          <p:grpSpPr>
            <a:xfrm>
              <a:off x="1981080" y="1487520"/>
              <a:ext cx="5536440" cy="2932920"/>
              <a:chOff x="1981080" y="1487520"/>
              <a:chExt cx="5536440" cy="2932920"/>
            </a:xfrm>
          </p:grpSpPr>
          <p:sp>
            <p:nvSpPr>
              <p:cNvPr id="217" name=""/>
              <p:cNvSpPr/>
              <p:nvPr/>
            </p:nvSpPr>
            <p:spPr>
              <a:xfrm>
                <a:off x="1981080" y="1987200"/>
                <a:ext cx="5029200" cy="205704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39760" y="2858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49440" y="1487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9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30480" y="2172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545080" y="2097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98600" y="3435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73480" y="3960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8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410080" y="3403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89400" y="2858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752480" y="1866960"/>
              <a:ext cx="609840" cy="533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76520" y="3772080"/>
              <a:ext cx="609480" cy="533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05720" y="1790640"/>
              <a:ext cx="609480" cy="533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3772080"/>
              <a:ext cx="609480" cy="533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14800" y="2781360"/>
              <a:ext cx="609480" cy="533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286000" y="3161880"/>
              <a:ext cx="182880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0" y="2324160"/>
              <a:ext cx="18288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724280" y="2247480"/>
              <a:ext cx="205740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3162240"/>
              <a:ext cx="198144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1920" y="4492800"/>
            <a:ext cx="8870400" cy="1678680"/>
            <a:chOff x="61920" y="4492800"/>
            <a:chExt cx="8870400" cy="1678680"/>
          </a:xfrm>
        </p:grpSpPr>
        <p:grpSp>
          <p:nvGrpSpPr>
            <p:cNvPr id="236" name=""/>
            <p:cNvGrpSpPr/>
            <p:nvPr/>
          </p:nvGrpSpPr>
          <p:grpSpPr>
            <a:xfrm>
              <a:off x="1790640" y="4492800"/>
              <a:ext cx="6492960" cy="780120"/>
              <a:chOff x="1790640" y="4492800"/>
              <a:chExt cx="6492960" cy="780120"/>
            </a:xfrm>
          </p:grpSpPr>
          <p:sp>
            <p:nvSpPr>
              <p:cNvPr id="237" name=""/>
              <p:cNvSpPr/>
              <p:nvPr/>
            </p:nvSpPr>
            <p:spPr>
              <a:xfrm>
                <a:off x="1790640" y="4813200"/>
                <a:ext cx="649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A----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B 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 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E -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D -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(A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17600" y="4492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9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84280" y="4492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27280" y="452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93960" y="4497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8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89600" y="4503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76400" y="47944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Optimum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920" y="5675400"/>
              <a:ext cx="18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Mogući put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20440" y="4816440"/>
              <a:ext cx="88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</a:t>
              </a: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=3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819440" y="5372280"/>
              <a:ext cx="6492600" cy="780120"/>
              <a:chOff x="1819440" y="5372280"/>
              <a:chExt cx="6492600" cy="780120"/>
            </a:xfrm>
          </p:grpSpPr>
          <p:sp>
            <p:nvSpPr>
              <p:cNvPr id="247" name=""/>
              <p:cNvSpPr/>
              <p:nvPr/>
            </p:nvSpPr>
            <p:spPr>
              <a:xfrm>
                <a:off x="1819440" y="5692680"/>
                <a:ext cx="649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A----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D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E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B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-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-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(A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45680" y="537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12720" y="537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8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52120" y="54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22400" y="537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17680" y="5383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050320" y="5711760"/>
              <a:ext cx="88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</a:t>
              </a: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=3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Cil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Minimizirati ukupnu razdaljinu za rezultujuću maršrut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Funkcija dobrote je jednaka udaljenost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f(s) = 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Fitnes funkcija za maksimizaciju bi bil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f(s) = 1/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f(s) = 1/s</a:t>
            </a:r>
            <a:r>
              <a:rPr b="0" lang="sl-SI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Ako ne odaberemo dobru fitnes f-ju, nećemo moći naći optimalno ili skoro-optimalno rešenj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5638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00cc00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54040" y="4876920"/>
            <a:ext cx="304920" cy="10666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3800" y="4889520"/>
            <a:ext cx="30492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00480" y="5068800"/>
            <a:ext cx="0" cy="838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0048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48040" y="51102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59200" y="49150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0" y="5638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00cc00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6035760"/>
            <a:ext cx="2057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1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32160" y="5051520"/>
            <a:ext cx="228600" cy="3045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37200" y="4721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136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80000" y="566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592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74920" y="57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89440" y="50292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52440" y="468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54040" y="4876920"/>
            <a:ext cx="304920" cy="10666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4889520"/>
            <a:ext cx="30492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     A D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D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00480" y="5068800"/>
            <a:ext cx="0" cy="838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048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48040" y="51102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59200" y="49150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5638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00cc00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6035760"/>
            <a:ext cx="2057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1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21120" y="6019920"/>
            <a:ext cx="1920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2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86440" y="502776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86440" y="48751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34000" y="50688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45160" y="48736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55160" y="4721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24360" y="50688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68920" y="553248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2160" y="5051520"/>
            <a:ext cx="228600" cy="3045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37200" y="4721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5136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80000" y="566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5592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74920" y="57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89440" y="50292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52440" y="468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64360" y="54864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64360" y="50292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66080" y="46054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64640" y="5648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2040" y="5562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54040" y="4876920"/>
            <a:ext cx="304920" cy="10666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93800" y="4889520"/>
            <a:ext cx="30492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57Z</dcterms:created>
  <dc:creator>ce</dc:creator>
  <dc:description/>
  <dc:language>en-US</dc:language>
  <cp:lastModifiedBy>ce</cp:lastModifiedBy>
  <dcterms:modified xsi:type="dcterms:W3CDTF">2004-03-25T11:45:08Z</dcterms:modified>
  <cp:revision>19</cp:revision>
  <dc:subject/>
  <dc:title>GA i problem putujućeg trgovca </dc:title>
</cp:coreProperties>
</file>